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CE3-9E4D-49EE-88C6-4F870DEE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C8E-ED95-4860-852E-22183220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76F-7D14-4B7E-9F72-DC110984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475-2A6B-494F-BA58-CAF7CEDF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329E-0BAF-4E8B-A1A0-2F8D33E6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BB6C-354D-4E16-B24B-BD9CD916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8379-4741-4016-86E1-8F8440C4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C28C-6AA3-4683-9DDE-3472B3A1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619A-67F2-44FC-8C70-D39C70F1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C1D7-6D94-41D5-8890-75A00868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CF9B-F50E-4261-9811-35B2D56C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CDD-FEFF-40F8-B048-E9EF0DFD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F730-F83B-46CE-B10C-0B6EFB7D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5053-4C43-4CB2-BAD2-70306158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F26E-092E-40A7-BCD2-474497BE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E36E-2512-4030-833D-20B21066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6DF3-5E8A-419F-9B62-4677E81C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3BB-3CFE-4900-A13D-6B79DA43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7C7-BBFE-4614-863F-764837F7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ACE-4858-4048-B2AD-2CB16041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336-3A82-4387-A978-A0752B16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8B7-D0BF-49E9-A875-BA64B75C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817-7FEE-46A5-A0BE-3EB255BE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093-B123-4646-B2A4-A523222A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7830-E4CB-4BA4-A166-CFF78DA0DEF3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5F0D-6E91-4D85-9677-074423B3ADE1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hyperlink" Target="http://pbskids.org/cyberchase/games/ballparkestimation/" TargetMode="External"/><Relationship Id="rId4" Type="http://schemas.openxmlformats.org/officeDocument/2006/relationships/hyperlink" Target="http://www.brainpop.com/math/geometryandmeasurement/estimating/" TargetMode="External"/><Relationship Id="rId5" Type="http://schemas.openxmlformats.org/officeDocument/2006/relationships/hyperlink" Target="http://www.brainpop.com/math/geometryandmeasurement/estimating/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ccff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ccff"/>
                </a:solidFill>
                <a:latin typeface="Verdana"/>
              </a:rPr>
              <a:t>Warm-up:  Round the following decimals to the specified place value.</a:t>
            </a:r>
            <a:endParaRPr b="0" lang="en-US" sz="3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ff"/>
                </a:solidFill>
                <a:latin typeface="Verdana"/>
              </a:rPr>
              <a:t>Nearest tenth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1.) 328.913  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  2.) 24.854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3.) 0.00872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ff"/>
                </a:solidFill>
                <a:latin typeface="Verdana"/>
              </a:rPr>
              <a:t>Nearest hundredth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4.) 355.8224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  5.) 32.00075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6.) 0.03326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320840" y="3125880"/>
            <a:ext cx="938160" cy="357120"/>
          </a:xfrm>
          <a:custGeom>
            <a:avLst/>
            <a:gdLst/>
            <a:ahLst/>
            <a:rect l="l" t="t" r="r" b="b"/>
            <a:pathLst>
              <a:path w="2606" h="993">
                <a:moveTo>
                  <a:pt x="5978" y="8682"/>
                </a:moveTo>
                <a:cubicBezTo>
                  <a:pt x="6002" y="8751"/>
                  <a:pt x="6141" y="8689"/>
                  <a:pt x="6201" y="8682"/>
                </a:cubicBezTo>
                <a:cubicBezTo>
                  <a:pt x="6243" y="8682"/>
                  <a:pt x="6251" y="8682"/>
                  <a:pt x="6276" y="8682"/>
                </a:cubicBezTo>
                <a:cubicBezTo>
                  <a:pt x="6203" y="8753"/>
                  <a:pt x="6129" y="8731"/>
                  <a:pt x="6028" y="8731"/>
                </a:cubicBezTo>
                <a:cubicBezTo>
                  <a:pt x="5983" y="8731"/>
                  <a:pt x="5885" y="8706"/>
                  <a:pt x="5928" y="8756"/>
                </a:cubicBezTo>
                <a:cubicBezTo>
                  <a:pt x="5973" y="8808"/>
                  <a:pt x="6089" y="8781"/>
                  <a:pt x="6152" y="8781"/>
                </a:cubicBezTo>
                <a:cubicBezTo>
                  <a:pt x="6079" y="8791"/>
                  <a:pt x="5873" y="8863"/>
                  <a:pt x="6077" y="8781"/>
                </a:cubicBezTo>
                <a:cubicBezTo>
                  <a:pt x="6118" y="8761"/>
                  <a:pt x="6124" y="8752"/>
                  <a:pt x="6152" y="8756"/>
                </a:cubicBezTo>
              </a:path>
              <a:path w="2606" h="993">
                <a:moveTo>
                  <a:pt x="3746" y="9178"/>
                </a:moveTo>
                <a:cubicBezTo>
                  <a:pt x="3831" y="9156"/>
                  <a:pt x="3896" y="9115"/>
                  <a:pt x="3994" y="9103"/>
                </a:cubicBezTo>
                <a:cubicBezTo>
                  <a:pt x="3954" y="9209"/>
                  <a:pt x="3922" y="9265"/>
                  <a:pt x="3845" y="9351"/>
                </a:cubicBezTo>
                <a:cubicBezTo>
                  <a:pt x="3879" y="9340"/>
                  <a:pt x="4018" y="9270"/>
                  <a:pt x="4018" y="9401"/>
                </a:cubicBezTo>
                <a:cubicBezTo>
                  <a:pt x="4018" y="9618"/>
                  <a:pt x="3767" y="9583"/>
                  <a:pt x="3671" y="9525"/>
                </a:cubicBezTo>
              </a:path>
              <a:path w="2606" h="993">
                <a:moveTo>
                  <a:pt x="4366" y="9277"/>
                </a:moveTo>
                <a:cubicBezTo>
                  <a:pt x="4477" y="9165"/>
                  <a:pt x="4693" y="9151"/>
                  <a:pt x="4614" y="9401"/>
                </a:cubicBezTo>
                <a:cubicBezTo>
                  <a:pt x="4555" y="9588"/>
                  <a:pt x="4331" y="9734"/>
                  <a:pt x="4242" y="9575"/>
                </a:cubicBezTo>
                <a:cubicBezTo>
                  <a:pt x="4371" y="9428"/>
                  <a:pt x="4339" y="9551"/>
                  <a:pt x="4465" y="9624"/>
                </a:cubicBezTo>
                <a:cubicBezTo>
                  <a:pt x="4514" y="9624"/>
                  <a:pt x="4531" y="9624"/>
                  <a:pt x="4564" y="9624"/>
                </a:cubicBezTo>
              </a:path>
              <a:path w="2606" h="993">
                <a:moveTo>
                  <a:pt x="5035" y="9203"/>
                </a:moveTo>
                <a:cubicBezTo>
                  <a:pt x="4996" y="9223"/>
                  <a:pt x="4764" y="9333"/>
                  <a:pt x="4862" y="9401"/>
                </a:cubicBezTo>
                <a:cubicBezTo>
                  <a:pt x="4992" y="9492"/>
                  <a:pt x="5036" y="9451"/>
                  <a:pt x="5085" y="9599"/>
                </a:cubicBezTo>
                <a:cubicBezTo>
                  <a:pt x="5008" y="9651"/>
                  <a:pt x="4980" y="9668"/>
                  <a:pt x="4911" y="9649"/>
                </a:cubicBezTo>
                <a:cubicBezTo>
                  <a:pt x="4872" y="9464"/>
                  <a:pt x="4982" y="9442"/>
                  <a:pt x="5085" y="9277"/>
                </a:cubicBezTo>
                <a:cubicBezTo>
                  <a:pt x="5085" y="9244"/>
                  <a:pt x="5077" y="9235"/>
                  <a:pt x="5035" y="9252"/>
                </a:cubicBezTo>
              </a:path>
              <a:path w="2606" h="993">
                <a:moveTo>
                  <a:pt x="5358" y="9575"/>
                </a:moveTo>
                <a:cubicBezTo>
                  <a:pt x="5358" y="9617"/>
                  <a:pt x="5352" y="9643"/>
                  <a:pt x="5333" y="9674"/>
                </a:cubicBezTo>
                <a:cubicBezTo>
                  <a:pt x="5424" y="9659"/>
                  <a:pt x="5427" y="9664"/>
                  <a:pt x="5407" y="9624"/>
                </a:cubicBezTo>
                <a:cubicBezTo>
                  <a:pt x="5407" y="9616"/>
                  <a:pt x="5407" y="9607"/>
                  <a:pt x="5407" y="9599"/>
                </a:cubicBezTo>
              </a:path>
              <a:path w="2606" h="993">
                <a:moveTo>
                  <a:pt x="6052" y="9401"/>
                </a:moveTo>
                <a:cubicBezTo>
                  <a:pt x="6052" y="9290"/>
                  <a:pt x="6066" y="9245"/>
                  <a:pt x="5978" y="9153"/>
                </a:cubicBezTo>
                <a:cubicBezTo>
                  <a:pt x="5881" y="9051"/>
                  <a:pt x="5778" y="9156"/>
                  <a:pt x="5730" y="9252"/>
                </a:cubicBezTo>
                <a:cubicBezTo>
                  <a:pt x="5722" y="9285"/>
                  <a:pt x="5713" y="9318"/>
                  <a:pt x="5705" y="9351"/>
                </a:cubicBezTo>
                <a:cubicBezTo>
                  <a:pt x="5819" y="9408"/>
                  <a:pt x="5976" y="9432"/>
                  <a:pt x="6077" y="9302"/>
                </a:cubicBezTo>
                <a:cubicBezTo>
                  <a:pt x="6090" y="9286"/>
                  <a:pt x="6102" y="9168"/>
                  <a:pt x="6102" y="9227"/>
                </a:cubicBezTo>
                <a:cubicBezTo>
                  <a:pt x="6091" y="9329"/>
                  <a:pt x="5994" y="9557"/>
                  <a:pt x="6052" y="9649"/>
                </a:cubicBezTo>
                <a:cubicBezTo>
                  <a:pt x="6077" y="9649"/>
                  <a:pt x="6085" y="9649"/>
                  <a:pt x="6052" y="964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5000" y="2652840"/>
            <a:ext cx="223920" cy="125280"/>
          </a:xfrm>
          <a:custGeom>
            <a:avLst/>
            <a:gdLst/>
            <a:ahLst/>
            <a:rect l="l" t="t" r="r" b="b"/>
            <a:pathLst>
              <a:path w="621" h="348">
                <a:moveTo>
                  <a:pt x="6127" y="7665"/>
                </a:moveTo>
                <a:cubicBezTo>
                  <a:pt x="6127" y="7597"/>
                  <a:pt x="6134" y="7571"/>
                  <a:pt x="6152" y="7516"/>
                </a:cubicBezTo>
                <a:cubicBezTo>
                  <a:pt x="6182" y="7426"/>
                  <a:pt x="6231" y="7455"/>
                  <a:pt x="6300" y="7417"/>
                </a:cubicBezTo>
                <a:cubicBezTo>
                  <a:pt x="6365" y="7381"/>
                  <a:pt x="6375" y="7384"/>
                  <a:pt x="6449" y="7392"/>
                </a:cubicBezTo>
                <a:cubicBezTo>
                  <a:pt x="6542" y="7402"/>
                  <a:pt x="6515" y="7389"/>
                  <a:pt x="6573" y="7466"/>
                </a:cubicBezTo>
                <a:cubicBezTo>
                  <a:pt x="6622" y="7531"/>
                  <a:pt x="6602" y="7538"/>
                  <a:pt x="6623" y="7615"/>
                </a:cubicBezTo>
                <a:cubicBezTo>
                  <a:pt x="6645" y="7695"/>
                  <a:pt x="6673" y="7755"/>
                  <a:pt x="6573" y="7665"/>
                </a:cubicBezTo>
                <a:cubicBezTo>
                  <a:pt x="6548" y="7640"/>
                  <a:pt x="6540" y="7632"/>
                  <a:pt x="6524" y="7615"/>
                </a:cubicBezTo>
                <a:cubicBezTo>
                  <a:pt x="6547" y="7648"/>
                  <a:pt x="6564" y="7692"/>
                  <a:pt x="6598" y="7714"/>
                </a:cubicBezTo>
                <a:cubicBezTo>
                  <a:pt x="6644" y="7744"/>
                  <a:pt x="6716" y="7649"/>
                  <a:pt x="6722" y="7640"/>
                </a:cubicBezTo>
                <a:cubicBezTo>
                  <a:pt x="6722" y="7632"/>
                  <a:pt x="6722" y="7623"/>
                  <a:pt x="6722" y="7615"/>
                </a:cubicBezTo>
                <a:cubicBezTo>
                  <a:pt x="6747" y="7628"/>
                  <a:pt x="6721" y="7683"/>
                  <a:pt x="6672" y="7714"/>
                </a:cubicBezTo>
                <a:cubicBezTo>
                  <a:pt x="6664" y="7714"/>
                  <a:pt x="6656" y="7714"/>
                  <a:pt x="6648" y="771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67120" y="3152880"/>
            <a:ext cx="704880" cy="392040"/>
          </a:xfrm>
          <a:custGeom>
            <a:avLst/>
            <a:gdLst/>
            <a:ahLst/>
            <a:rect l="l" t="t" r="r" b="b"/>
            <a:pathLst>
              <a:path w="1961" h="1092">
                <a:moveTo>
                  <a:pt x="12254" y="8756"/>
                </a:moveTo>
                <a:cubicBezTo>
                  <a:pt x="12177" y="8756"/>
                  <a:pt x="12350" y="8760"/>
                  <a:pt x="12427" y="8756"/>
                </a:cubicBezTo>
                <a:cubicBezTo>
                  <a:pt x="12475" y="8753"/>
                  <a:pt x="12703" y="8756"/>
                  <a:pt x="12675" y="8756"/>
                </a:cubicBezTo>
              </a:path>
              <a:path w="1961" h="1092">
                <a:moveTo>
                  <a:pt x="12477" y="9227"/>
                </a:moveTo>
                <a:cubicBezTo>
                  <a:pt x="12477" y="9161"/>
                  <a:pt x="12465" y="9103"/>
                  <a:pt x="12378" y="9103"/>
                </a:cubicBezTo>
                <a:cubicBezTo>
                  <a:pt x="12293" y="9103"/>
                  <a:pt x="12198" y="9175"/>
                  <a:pt x="12179" y="9252"/>
                </a:cubicBezTo>
                <a:cubicBezTo>
                  <a:pt x="12163" y="9314"/>
                  <a:pt x="12185" y="9370"/>
                  <a:pt x="12204" y="9426"/>
                </a:cubicBezTo>
                <a:cubicBezTo>
                  <a:pt x="12320" y="9452"/>
                  <a:pt x="12350" y="9413"/>
                  <a:pt x="12427" y="9327"/>
                </a:cubicBezTo>
                <a:cubicBezTo>
                  <a:pt x="12469" y="9280"/>
                  <a:pt x="12488" y="9258"/>
                  <a:pt x="12502" y="9203"/>
                </a:cubicBezTo>
                <a:cubicBezTo>
                  <a:pt x="12502" y="9103"/>
                  <a:pt x="12479" y="9351"/>
                  <a:pt x="12477" y="9451"/>
                </a:cubicBezTo>
                <a:cubicBezTo>
                  <a:pt x="12475" y="9529"/>
                  <a:pt x="12452" y="9577"/>
                  <a:pt x="12452" y="9649"/>
                </a:cubicBezTo>
                <a:cubicBezTo>
                  <a:pt x="12452" y="9692"/>
                  <a:pt x="12442" y="9687"/>
                  <a:pt x="12477" y="9699"/>
                </a:cubicBezTo>
              </a:path>
              <a:path w="1961" h="1092">
                <a:moveTo>
                  <a:pt x="10815" y="9327"/>
                </a:moveTo>
                <a:cubicBezTo>
                  <a:pt x="10756" y="9268"/>
                  <a:pt x="10881" y="9238"/>
                  <a:pt x="10939" y="9227"/>
                </a:cubicBezTo>
                <a:cubicBezTo>
                  <a:pt x="11065" y="9481"/>
                  <a:pt x="11057" y="9616"/>
                  <a:pt x="10840" y="9823"/>
                </a:cubicBezTo>
                <a:cubicBezTo>
                  <a:pt x="10823" y="9831"/>
                  <a:pt x="10807" y="9839"/>
                  <a:pt x="10790" y="9847"/>
                </a:cubicBezTo>
                <a:cubicBezTo>
                  <a:pt x="10749" y="9752"/>
                  <a:pt x="10664" y="9533"/>
                  <a:pt x="10864" y="9575"/>
                </a:cubicBezTo>
                <a:cubicBezTo>
                  <a:pt x="10951" y="9593"/>
                  <a:pt x="11011" y="9832"/>
                  <a:pt x="11038" y="9748"/>
                </a:cubicBezTo>
                <a:cubicBezTo>
                  <a:pt x="11046" y="9715"/>
                  <a:pt x="11055" y="9682"/>
                  <a:pt x="11063" y="9649"/>
                </a:cubicBezTo>
              </a:path>
              <a:path w="1961" h="1092">
                <a:moveTo>
                  <a:pt x="11162" y="9327"/>
                </a:moveTo>
                <a:cubicBezTo>
                  <a:pt x="11177" y="9377"/>
                  <a:pt x="11186" y="9554"/>
                  <a:pt x="11261" y="9550"/>
                </a:cubicBezTo>
                <a:cubicBezTo>
                  <a:pt x="11333" y="9547"/>
                  <a:pt x="11419" y="9501"/>
                  <a:pt x="11485" y="9475"/>
                </a:cubicBezTo>
              </a:path>
              <a:path w="1961" h="1092">
                <a:moveTo>
                  <a:pt x="11435" y="9128"/>
                </a:moveTo>
                <a:cubicBezTo>
                  <a:pt x="11445" y="9315"/>
                  <a:pt x="11440" y="9517"/>
                  <a:pt x="11485" y="9699"/>
                </a:cubicBezTo>
                <a:cubicBezTo>
                  <a:pt x="11493" y="9715"/>
                  <a:pt x="11501" y="9732"/>
                  <a:pt x="11509" y="9748"/>
                </a:cubicBezTo>
              </a:path>
              <a:path w="1961" h="1092">
                <a:moveTo>
                  <a:pt x="11832" y="9723"/>
                </a:moveTo>
                <a:cubicBezTo>
                  <a:pt x="11832" y="9756"/>
                  <a:pt x="11832" y="9773"/>
                  <a:pt x="11832" y="9798"/>
                </a:cubicBezTo>
                <a:cubicBezTo>
                  <a:pt x="11955" y="9798"/>
                  <a:pt x="11931" y="9800"/>
                  <a:pt x="11931" y="9674"/>
                </a:cubicBezTo>
                <a:cubicBezTo>
                  <a:pt x="11931" y="9646"/>
                  <a:pt x="11913" y="9721"/>
                  <a:pt x="11906" y="974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83080" y="2724120"/>
            <a:ext cx="187200" cy="88920"/>
          </a:xfrm>
          <a:custGeom>
            <a:avLst/>
            <a:gdLst/>
            <a:ahLst/>
            <a:rect l="l" t="t" r="r" b="b"/>
            <a:pathLst>
              <a:path w="522" h="249">
                <a:moveTo>
                  <a:pt x="12452" y="7813"/>
                </a:moveTo>
                <a:cubicBezTo>
                  <a:pt x="12452" y="7758"/>
                  <a:pt x="12466" y="7714"/>
                  <a:pt x="12477" y="7689"/>
                </a:cubicBezTo>
                <a:cubicBezTo>
                  <a:pt x="12501" y="7634"/>
                  <a:pt x="12501" y="7673"/>
                  <a:pt x="12526" y="7640"/>
                </a:cubicBezTo>
                <a:cubicBezTo>
                  <a:pt x="12545" y="7616"/>
                  <a:pt x="12586" y="7634"/>
                  <a:pt x="12601" y="7615"/>
                </a:cubicBezTo>
                <a:cubicBezTo>
                  <a:pt x="12619" y="7593"/>
                  <a:pt x="12661" y="7607"/>
                  <a:pt x="12675" y="7590"/>
                </a:cubicBezTo>
                <a:cubicBezTo>
                  <a:pt x="12698" y="7561"/>
                  <a:pt x="12697" y="7565"/>
                  <a:pt x="12750" y="7565"/>
                </a:cubicBezTo>
                <a:cubicBezTo>
                  <a:pt x="12807" y="7565"/>
                  <a:pt x="12821" y="7578"/>
                  <a:pt x="12849" y="7615"/>
                </a:cubicBezTo>
                <a:cubicBezTo>
                  <a:pt x="12882" y="7658"/>
                  <a:pt x="12898" y="7658"/>
                  <a:pt x="12898" y="7714"/>
                </a:cubicBezTo>
                <a:cubicBezTo>
                  <a:pt x="12952" y="7696"/>
                  <a:pt x="12899" y="7683"/>
                  <a:pt x="12923" y="7640"/>
                </a:cubicBezTo>
                <a:cubicBezTo>
                  <a:pt x="12943" y="7605"/>
                  <a:pt x="12963" y="7604"/>
                  <a:pt x="12973" y="7565"/>
                </a:cubicBezTo>
                <a:cubicBezTo>
                  <a:pt x="12973" y="7623"/>
                  <a:pt x="12973" y="7681"/>
                  <a:pt x="12973" y="7739"/>
                </a:cubicBezTo>
                <a:cubicBezTo>
                  <a:pt x="12946" y="7750"/>
                  <a:pt x="12886" y="7760"/>
                  <a:pt x="12849" y="7739"/>
                </a:cubicBezTo>
                <a:cubicBezTo>
                  <a:pt x="12821" y="7711"/>
                  <a:pt x="12807" y="7702"/>
                  <a:pt x="12774" y="771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2724120"/>
            <a:ext cx="206280" cy="88920"/>
          </a:xfrm>
          <a:custGeom>
            <a:avLst/>
            <a:gdLst/>
            <a:ahLst/>
            <a:rect l="l" t="t" r="r" b="b"/>
            <a:pathLst>
              <a:path w="572" h="249">
                <a:moveTo>
                  <a:pt x="19050" y="7813"/>
                </a:moveTo>
                <a:cubicBezTo>
                  <a:pt x="19050" y="7751"/>
                  <a:pt x="19060" y="7723"/>
                  <a:pt x="19075" y="7665"/>
                </a:cubicBezTo>
                <a:cubicBezTo>
                  <a:pt x="19092" y="7596"/>
                  <a:pt x="19150" y="7614"/>
                  <a:pt x="19199" y="7590"/>
                </a:cubicBezTo>
                <a:cubicBezTo>
                  <a:pt x="19243" y="7568"/>
                  <a:pt x="19270" y="7565"/>
                  <a:pt x="19323" y="7565"/>
                </a:cubicBezTo>
                <a:cubicBezTo>
                  <a:pt x="19376" y="7565"/>
                  <a:pt x="19384" y="7577"/>
                  <a:pt x="19422" y="7615"/>
                </a:cubicBezTo>
                <a:cubicBezTo>
                  <a:pt x="19459" y="7652"/>
                  <a:pt x="19447" y="7688"/>
                  <a:pt x="19447" y="7739"/>
                </a:cubicBezTo>
                <a:cubicBezTo>
                  <a:pt x="19447" y="7774"/>
                  <a:pt x="19482" y="7824"/>
                  <a:pt x="19447" y="7813"/>
                </a:cubicBezTo>
                <a:cubicBezTo>
                  <a:pt x="19368" y="7788"/>
                  <a:pt x="19423" y="7781"/>
                  <a:pt x="19372" y="7764"/>
                </a:cubicBezTo>
                <a:cubicBezTo>
                  <a:pt x="19410" y="7773"/>
                  <a:pt x="19433" y="7806"/>
                  <a:pt x="19447" y="7813"/>
                </a:cubicBezTo>
                <a:cubicBezTo>
                  <a:pt x="19510" y="7843"/>
                  <a:pt x="19554" y="7785"/>
                  <a:pt x="19596" y="7764"/>
                </a:cubicBezTo>
                <a:cubicBezTo>
                  <a:pt x="19604" y="7764"/>
                  <a:pt x="19613" y="7764"/>
                  <a:pt x="19621" y="776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91160" y="3152880"/>
            <a:ext cx="430200" cy="320400"/>
          </a:xfrm>
          <a:custGeom>
            <a:avLst/>
            <a:gdLst/>
            <a:ahLst/>
            <a:rect l="l" t="t" r="r" b="b"/>
            <a:pathLst>
              <a:path w="1192" h="894">
                <a:moveTo>
                  <a:pt x="18752" y="8781"/>
                </a:moveTo>
                <a:cubicBezTo>
                  <a:pt x="18763" y="8770"/>
                  <a:pt x="18846" y="8759"/>
                  <a:pt x="18901" y="8756"/>
                </a:cubicBezTo>
                <a:cubicBezTo>
                  <a:pt x="18963" y="8753"/>
                  <a:pt x="18969" y="8757"/>
                  <a:pt x="19025" y="8781"/>
                </a:cubicBezTo>
                <a:cubicBezTo>
                  <a:pt x="19066" y="8781"/>
                  <a:pt x="18992" y="8781"/>
                  <a:pt x="18951" y="8781"/>
                </a:cubicBezTo>
                <a:cubicBezTo>
                  <a:pt x="18926" y="8781"/>
                  <a:pt x="18749" y="8781"/>
                  <a:pt x="18876" y="8781"/>
                </a:cubicBezTo>
                <a:cubicBezTo>
                  <a:pt x="18969" y="8781"/>
                  <a:pt x="19022" y="8793"/>
                  <a:pt x="19100" y="8781"/>
                </a:cubicBezTo>
                <a:cubicBezTo>
                  <a:pt x="19108" y="8781"/>
                  <a:pt x="19116" y="8781"/>
                  <a:pt x="19124" y="8781"/>
                </a:cubicBezTo>
              </a:path>
              <a:path w="1192" h="894">
                <a:moveTo>
                  <a:pt x="19025" y="9203"/>
                </a:moveTo>
                <a:cubicBezTo>
                  <a:pt x="18985" y="9203"/>
                  <a:pt x="18945" y="9208"/>
                  <a:pt x="18926" y="9252"/>
                </a:cubicBezTo>
                <a:cubicBezTo>
                  <a:pt x="18913" y="9282"/>
                  <a:pt x="18890" y="9286"/>
                  <a:pt x="18876" y="9327"/>
                </a:cubicBezTo>
                <a:cubicBezTo>
                  <a:pt x="18862" y="9367"/>
                  <a:pt x="18852" y="9407"/>
                  <a:pt x="18852" y="9451"/>
                </a:cubicBezTo>
                <a:cubicBezTo>
                  <a:pt x="18852" y="9476"/>
                  <a:pt x="18859" y="9539"/>
                  <a:pt x="18876" y="9550"/>
                </a:cubicBezTo>
                <a:cubicBezTo>
                  <a:pt x="18902" y="9567"/>
                  <a:pt x="18925" y="9587"/>
                  <a:pt x="18976" y="9599"/>
                </a:cubicBezTo>
                <a:cubicBezTo>
                  <a:pt x="19052" y="9618"/>
                  <a:pt x="19039" y="9572"/>
                  <a:pt x="19100" y="9550"/>
                </a:cubicBezTo>
                <a:cubicBezTo>
                  <a:pt x="19159" y="9528"/>
                  <a:pt x="19162" y="9492"/>
                  <a:pt x="19199" y="9451"/>
                </a:cubicBezTo>
                <a:cubicBezTo>
                  <a:pt x="19234" y="9412"/>
                  <a:pt x="19224" y="9380"/>
                  <a:pt x="19224" y="9327"/>
                </a:cubicBezTo>
                <a:cubicBezTo>
                  <a:pt x="19224" y="9299"/>
                  <a:pt x="19217" y="9242"/>
                  <a:pt x="19199" y="9227"/>
                </a:cubicBezTo>
                <a:cubicBezTo>
                  <a:pt x="19155" y="9192"/>
                  <a:pt x="19125" y="9185"/>
                  <a:pt x="19075" y="9178"/>
                </a:cubicBezTo>
              </a:path>
              <a:path w="1192" h="894">
                <a:moveTo>
                  <a:pt x="18182" y="9178"/>
                </a:moveTo>
                <a:cubicBezTo>
                  <a:pt x="18096" y="9220"/>
                  <a:pt x="18086" y="9335"/>
                  <a:pt x="18058" y="9426"/>
                </a:cubicBezTo>
                <a:cubicBezTo>
                  <a:pt x="18044" y="9471"/>
                  <a:pt x="17993" y="9591"/>
                  <a:pt x="18058" y="9624"/>
                </a:cubicBezTo>
                <a:cubicBezTo>
                  <a:pt x="18138" y="9664"/>
                  <a:pt x="18233" y="9648"/>
                  <a:pt x="18306" y="9599"/>
                </a:cubicBezTo>
                <a:cubicBezTo>
                  <a:pt x="18372" y="9555"/>
                  <a:pt x="18409" y="9473"/>
                  <a:pt x="18430" y="9401"/>
                </a:cubicBezTo>
                <a:cubicBezTo>
                  <a:pt x="18444" y="9353"/>
                  <a:pt x="18405" y="9289"/>
                  <a:pt x="18380" y="9252"/>
                </a:cubicBezTo>
                <a:cubicBezTo>
                  <a:pt x="18360" y="9223"/>
                  <a:pt x="18225" y="9203"/>
                  <a:pt x="18207" y="9227"/>
                </a:cubicBezTo>
                <a:cubicBezTo>
                  <a:pt x="18199" y="9252"/>
                  <a:pt x="18190" y="9277"/>
                  <a:pt x="18182" y="930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4160" y="3419640"/>
            <a:ext cx="4643640" cy="1652400"/>
          </a:xfrm>
          <a:custGeom>
            <a:avLst/>
            <a:gdLst/>
            <a:ahLst/>
            <a:rect l="l" t="t" r="r" b="b"/>
            <a:pathLst>
              <a:path w="12900" h="4590">
                <a:moveTo>
                  <a:pt x="18604" y="9500"/>
                </a:moveTo>
                <a:cubicBezTo>
                  <a:pt x="18604" y="9528"/>
                  <a:pt x="18602" y="9539"/>
                  <a:pt x="18579" y="9550"/>
                </a:cubicBezTo>
              </a:path>
              <a:path w="12900" h="4590">
                <a:moveTo>
                  <a:pt x="5730" y="14089"/>
                </a:moveTo>
                <a:cubicBezTo>
                  <a:pt x="5722" y="14089"/>
                  <a:pt x="5713" y="14089"/>
                  <a:pt x="5705" y="14089"/>
                </a:cubicBezTo>
              </a:path>
              <a:path w="12900" h="4590">
                <a:moveTo>
                  <a:pt x="12998" y="11881"/>
                </a:moveTo>
                <a:cubicBezTo>
                  <a:pt x="12998" y="11873"/>
                  <a:pt x="12998" y="11865"/>
                  <a:pt x="12998" y="11857"/>
                </a:cubicBezTo>
              </a:path>
              <a:path w="12900" h="4590">
                <a:moveTo>
                  <a:pt x="13022" y="11857"/>
                </a:moveTo>
                <a:lnTo>
                  <a:pt x="13022" y="11857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35040" y="4919760"/>
            <a:ext cx="438120" cy="206280"/>
          </a:xfrm>
          <a:custGeom>
            <a:avLst/>
            <a:gdLst/>
            <a:ahLst/>
            <a:rect l="l" t="t" r="r" b="b"/>
            <a:pathLst>
              <a:path w="1217" h="572">
                <a:moveTo>
                  <a:pt x="5482" y="13667"/>
                </a:moveTo>
                <a:cubicBezTo>
                  <a:pt x="5424" y="13667"/>
                  <a:pt x="5376" y="13654"/>
                  <a:pt x="5333" y="13692"/>
                </a:cubicBezTo>
                <a:cubicBezTo>
                  <a:pt x="5263" y="13754"/>
                  <a:pt x="5247" y="13853"/>
                  <a:pt x="5234" y="13940"/>
                </a:cubicBezTo>
                <a:cubicBezTo>
                  <a:pt x="5284" y="13940"/>
                  <a:pt x="5350" y="13921"/>
                  <a:pt x="5383" y="13965"/>
                </a:cubicBezTo>
                <a:cubicBezTo>
                  <a:pt x="5502" y="14123"/>
                  <a:pt x="5212" y="14167"/>
                  <a:pt x="5135" y="14188"/>
                </a:cubicBezTo>
              </a:path>
              <a:path w="1217" h="572">
                <a:moveTo>
                  <a:pt x="5110" y="13717"/>
                </a:moveTo>
                <a:cubicBezTo>
                  <a:pt x="5033" y="13726"/>
                  <a:pt x="4966" y="13742"/>
                  <a:pt x="4887" y="13742"/>
                </a:cubicBezTo>
                <a:cubicBezTo>
                  <a:pt x="4846" y="13742"/>
                  <a:pt x="4832" y="13847"/>
                  <a:pt x="4812" y="13891"/>
                </a:cubicBezTo>
                <a:cubicBezTo>
                  <a:pt x="4879" y="13913"/>
                  <a:pt x="5006" y="13854"/>
                  <a:pt x="5011" y="13990"/>
                </a:cubicBezTo>
                <a:cubicBezTo>
                  <a:pt x="5017" y="14156"/>
                  <a:pt x="4823" y="14221"/>
                  <a:pt x="4688" y="14188"/>
                </a:cubicBezTo>
                <a:cubicBezTo>
                  <a:pt x="4655" y="14172"/>
                  <a:pt x="4622" y="14155"/>
                  <a:pt x="4589" y="14139"/>
                </a:cubicBezTo>
              </a:path>
              <a:path w="1217" h="572">
                <a:moveTo>
                  <a:pt x="4390" y="13816"/>
                </a:moveTo>
                <a:cubicBezTo>
                  <a:pt x="4406" y="13752"/>
                  <a:pt x="4519" y="13677"/>
                  <a:pt x="4589" y="13717"/>
                </a:cubicBezTo>
                <a:cubicBezTo>
                  <a:pt x="4708" y="13784"/>
                  <a:pt x="4545" y="14065"/>
                  <a:pt x="4465" y="14039"/>
                </a:cubicBezTo>
                <a:cubicBezTo>
                  <a:pt x="4465" y="13998"/>
                  <a:pt x="4457" y="13982"/>
                  <a:pt x="4490" y="13990"/>
                </a:cubicBezTo>
                <a:cubicBezTo>
                  <a:pt x="4621" y="14062"/>
                  <a:pt x="4663" y="14187"/>
                  <a:pt x="4465" y="14238"/>
                </a:cubicBezTo>
                <a:cubicBezTo>
                  <a:pt x="4370" y="14262"/>
                  <a:pt x="4341" y="14228"/>
                  <a:pt x="4266" y="1421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46680" y="4633920"/>
            <a:ext cx="822240" cy="787320"/>
          </a:xfrm>
          <a:custGeom>
            <a:avLst/>
            <a:gdLst/>
            <a:ahLst/>
            <a:rect l="l" t="t" r="r" b="b"/>
            <a:pathLst>
              <a:path w="2283" h="2183">
                <a:moveTo>
                  <a:pt x="12849" y="12874"/>
                </a:moveTo>
                <a:cubicBezTo>
                  <a:pt x="12965" y="12874"/>
                  <a:pt x="13080" y="12874"/>
                  <a:pt x="13196" y="12874"/>
                </a:cubicBezTo>
                <a:cubicBezTo>
                  <a:pt x="13212" y="12919"/>
                  <a:pt x="13231" y="12877"/>
                  <a:pt x="13246" y="12923"/>
                </a:cubicBezTo>
              </a:path>
              <a:path w="2283" h="2183">
                <a:moveTo>
                  <a:pt x="13146" y="13370"/>
                </a:moveTo>
                <a:cubicBezTo>
                  <a:pt x="13113" y="13370"/>
                  <a:pt x="13069" y="13335"/>
                  <a:pt x="13047" y="13345"/>
                </a:cubicBezTo>
                <a:cubicBezTo>
                  <a:pt x="12998" y="13367"/>
                  <a:pt x="12989" y="13430"/>
                  <a:pt x="12973" y="13469"/>
                </a:cubicBezTo>
                <a:cubicBezTo>
                  <a:pt x="12947" y="13533"/>
                  <a:pt x="12910" y="13573"/>
                  <a:pt x="12898" y="13643"/>
                </a:cubicBezTo>
                <a:cubicBezTo>
                  <a:pt x="12890" y="13692"/>
                  <a:pt x="12874" y="13717"/>
                  <a:pt x="12874" y="13767"/>
                </a:cubicBezTo>
                <a:cubicBezTo>
                  <a:pt x="12874" y="13812"/>
                  <a:pt x="12903" y="13826"/>
                  <a:pt x="12923" y="13841"/>
                </a:cubicBezTo>
                <a:cubicBezTo>
                  <a:pt x="12954" y="13864"/>
                  <a:pt x="13005" y="13881"/>
                  <a:pt x="13047" y="13866"/>
                </a:cubicBezTo>
                <a:cubicBezTo>
                  <a:pt x="13087" y="13852"/>
                  <a:pt x="13170" y="13781"/>
                  <a:pt x="13196" y="13742"/>
                </a:cubicBezTo>
                <a:cubicBezTo>
                  <a:pt x="13212" y="13719"/>
                  <a:pt x="13238" y="13649"/>
                  <a:pt x="13246" y="13618"/>
                </a:cubicBezTo>
                <a:cubicBezTo>
                  <a:pt x="13258" y="13572"/>
                  <a:pt x="13225" y="13537"/>
                  <a:pt x="13221" y="13494"/>
                </a:cubicBezTo>
                <a:cubicBezTo>
                  <a:pt x="13216" y="13449"/>
                  <a:pt x="13180" y="13436"/>
                  <a:pt x="13171" y="13419"/>
                </a:cubicBezTo>
                <a:cubicBezTo>
                  <a:pt x="13153" y="13385"/>
                  <a:pt x="13165" y="13381"/>
                  <a:pt x="13122" y="13370"/>
                </a:cubicBezTo>
              </a:path>
              <a:path w="2283" h="2183">
                <a:moveTo>
                  <a:pt x="10964" y="13345"/>
                </a:moveTo>
                <a:cubicBezTo>
                  <a:pt x="11036" y="13333"/>
                  <a:pt x="11244" y="13253"/>
                  <a:pt x="11261" y="13395"/>
                </a:cubicBezTo>
                <a:cubicBezTo>
                  <a:pt x="11272" y="13483"/>
                  <a:pt x="11123" y="13685"/>
                  <a:pt x="11088" y="13667"/>
                </a:cubicBezTo>
                <a:cubicBezTo>
                  <a:pt x="11229" y="13667"/>
                  <a:pt x="11324" y="13664"/>
                  <a:pt x="11261" y="13841"/>
                </a:cubicBezTo>
                <a:cubicBezTo>
                  <a:pt x="11209" y="13988"/>
                  <a:pt x="11112" y="14048"/>
                  <a:pt x="10988" y="13965"/>
                </a:cubicBezTo>
              </a:path>
              <a:path w="2283" h="2183">
                <a:moveTo>
                  <a:pt x="11559" y="13370"/>
                </a:moveTo>
                <a:cubicBezTo>
                  <a:pt x="11641" y="13342"/>
                  <a:pt x="11674" y="13336"/>
                  <a:pt x="11733" y="13370"/>
                </a:cubicBezTo>
                <a:cubicBezTo>
                  <a:pt x="11788" y="13526"/>
                  <a:pt x="11742" y="13702"/>
                  <a:pt x="11584" y="13816"/>
                </a:cubicBezTo>
                <a:cubicBezTo>
                  <a:pt x="11551" y="13824"/>
                  <a:pt x="11518" y="13833"/>
                  <a:pt x="11485" y="13841"/>
                </a:cubicBezTo>
                <a:cubicBezTo>
                  <a:pt x="11431" y="13751"/>
                  <a:pt x="11387" y="13639"/>
                  <a:pt x="11559" y="13643"/>
                </a:cubicBezTo>
                <a:cubicBezTo>
                  <a:pt x="11710" y="13647"/>
                  <a:pt x="11824" y="13669"/>
                  <a:pt x="11857" y="13816"/>
                </a:cubicBezTo>
              </a:path>
              <a:path w="2283" h="2183">
                <a:moveTo>
                  <a:pt x="12030" y="13841"/>
                </a:moveTo>
                <a:cubicBezTo>
                  <a:pt x="12030" y="13889"/>
                  <a:pt x="12010" y="13915"/>
                  <a:pt x="12055" y="13841"/>
                </a:cubicBezTo>
              </a:path>
              <a:path w="2283" h="2183">
                <a:moveTo>
                  <a:pt x="12477" y="13320"/>
                </a:moveTo>
                <a:cubicBezTo>
                  <a:pt x="12371" y="13320"/>
                  <a:pt x="12362" y="13483"/>
                  <a:pt x="12353" y="13568"/>
                </a:cubicBezTo>
                <a:cubicBezTo>
                  <a:pt x="12336" y="13720"/>
                  <a:pt x="12369" y="13747"/>
                  <a:pt x="12477" y="13816"/>
                </a:cubicBezTo>
                <a:cubicBezTo>
                  <a:pt x="12600" y="13754"/>
                  <a:pt x="12790" y="13596"/>
                  <a:pt x="12675" y="13419"/>
                </a:cubicBezTo>
                <a:cubicBezTo>
                  <a:pt x="12646" y="13375"/>
                  <a:pt x="12502" y="13370"/>
                  <a:pt x="12452" y="13370"/>
                </a:cubicBezTo>
              </a:path>
              <a:path w="2283" h="2183">
                <a:moveTo>
                  <a:pt x="11881" y="14486"/>
                </a:moveTo>
                <a:cubicBezTo>
                  <a:pt x="12027" y="14375"/>
                  <a:pt x="12013" y="14352"/>
                  <a:pt x="12179" y="14412"/>
                </a:cubicBezTo>
                <a:cubicBezTo>
                  <a:pt x="12166" y="14542"/>
                  <a:pt x="12163" y="14744"/>
                  <a:pt x="11981" y="14759"/>
                </a:cubicBezTo>
                <a:cubicBezTo>
                  <a:pt x="11981" y="14751"/>
                  <a:pt x="11981" y="14742"/>
                  <a:pt x="11981" y="14734"/>
                </a:cubicBezTo>
                <a:cubicBezTo>
                  <a:pt x="12071" y="14673"/>
                  <a:pt x="12176" y="14655"/>
                  <a:pt x="12179" y="14808"/>
                </a:cubicBezTo>
                <a:cubicBezTo>
                  <a:pt x="12184" y="15050"/>
                  <a:pt x="12039" y="15048"/>
                  <a:pt x="11857" y="15032"/>
                </a:cubicBezTo>
                <a:cubicBezTo>
                  <a:pt x="11832" y="15032"/>
                  <a:pt x="11824" y="15032"/>
                  <a:pt x="11857" y="15032"/>
                </a:cubicBezTo>
              </a:path>
              <a:path w="2283" h="2183">
                <a:moveTo>
                  <a:pt x="12526" y="14362"/>
                </a:moveTo>
                <a:cubicBezTo>
                  <a:pt x="12519" y="14413"/>
                  <a:pt x="12502" y="14469"/>
                  <a:pt x="12502" y="14387"/>
                </a:cubicBezTo>
                <a:cubicBezTo>
                  <a:pt x="12642" y="14278"/>
                  <a:pt x="12769" y="14235"/>
                  <a:pt x="12774" y="14486"/>
                </a:cubicBezTo>
                <a:cubicBezTo>
                  <a:pt x="12779" y="14738"/>
                  <a:pt x="12608" y="14874"/>
                  <a:pt x="12427" y="15007"/>
                </a:cubicBezTo>
                <a:cubicBezTo>
                  <a:pt x="12460" y="14843"/>
                  <a:pt x="12552" y="14756"/>
                  <a:pt x="12725" y="14833"/>
                </a:cubicBezTo>
                <a:cubicBezTo>
                  <a:pt x="12752" y="14845"/>
                  <a:pt x="12775" y="14865"/>
                  <a:pt x="12799" y="1488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0000" y="4197240"/>
            <a:ext cx="204840" cy="88920"/>
          </a:xfrm>
          <a:custGeom>
            <a:avLst/>
            <a:gdLst/>
            <a:ahLst/>
            <a:rect l="l" t="t" r="r" b="b"/>
            <a:pathLst>
              <a:path w="571" h="249">
                <a:moveTo>
                  <a:pt x="13022" y="11857"/>
                </a:moveTo>
                <a:cubicBezTo>
                  <a:pt x="13009" y="11817"/>
                  <a:pt x="13011" y="11847"/>
                  <a:pt x="12998" y="11807"/>
                </a:cubicBezTo>
                <a:cubicBezTo>
                  <a:pt x="12999" y="11804"/>
                  <a:pt x="13019" y="11735"/>
                  <a:pt x="13022" y="11733"/>
                </a:cubicBezTo>
                <a:cubicBezTo>
                  <a:pt x="13033" y="11725"/>
                  <a:pt x="13089" y="11717"/>
                  <a:pt x="13097" y="11708"/>
                </a:cubicBezTo>
                <a:cubicBezTo>
                  <a:pt x="13120" y="11679"/>
                  <a:pt x="13118" y="11683"/>
                  <a:pt x="13171" y="11683"/>
                </a:cubicBezTo>
                <a:cubicBezTo>
                  <a:pt x="13211" y="11683"/>
                  <a:pt x="13246" y="11633"/>
                  <a:pt x="13295" y="11658"/>
                </a:cubicBezTo>
                <a:cubicBezTo>
                  <a:pt x="13307" y="11664"/>
                  <a:pt x="13392" y="11704"/>
                  <a:pt x="13395" y="11708"/>
                </a:cubicBezTo>
                <a:cubicBezTo>
                  <a:pt x="13408" y="11728"/>
                  <a:pt x="13414" y="11781"/>
                  <a:pt x="13444" y="11807"/>
                </a:cubicBezTo>
                <a:cubicBezTo>
                  <a:pt x="13452" y="11814"/>
                  <a:pt x="13491" y="11855"/>
                  <a:pt x="13494" y="11857"/>
                </a:cubicBezTo>
                <a:cubicBezTo>
                  <a:pt x="13522" y="11871"/>
                  <a:pt x="13541" y="11804"/>
                  <a:pt x="13543" y="11782"/>
                </a:cubicBezTo>
                <a:cubicBezTo>
                  <a:pt x="13543" y="11774"/>
                  <a:pt x="13543" y="11765"/>
                  <a:pt x="13543" y="11757"/>
                </a:cubicBezTo>
                <a:cubicBezTo>
                  <a:pt x="13559" y="11773"/>
                  <a:pt x="13546" y="11836"/>
                  <a:pt x="13519" y="11881"/>
                </a:cubicBezTo>
                <a:cubicBezTo>
                  <a:pt x="13496" y="11918"/>
                  <a:pt x="13456" y="11906"/>
                  <a:pt x="13419" y="11906"/>
                </a:cubicBezTo>
                <a:cubicBezTo>
                  <a:pt x="13374" y="11906"/>
                  <a:pt x="13358" y="11919"/>
                  <a:pt x="13345" y="1188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4125960"/>
            <a:ext cx="231840" cy="125280"/>
          </a:xfrm>
          <a:custGeom>
            <a:avLst/>
            <a:gdLst/>
            <a:ahLst/>
            <a:rect l="l" t="t" r="r" b="b"/>
            <a:pathLst>
              <a:path w="646" h="348">
                <a:moveTo>
                  <a:pt x="19472" y="11757"/>
                </a:moveTo>
                <a:cubicBezTo>
                  <a:pt x="19492" y="11667"/>
                  <a:pt x="19531" y="11604"/>
                  <a:pt x="19596" y="11534"/>
                </a:cubicBezTo>
                <a:cubicBezTo>
                  <a:pt x="19660" y="11465"/>
                  <a:pt x="19733" y="11446"/>
                  <a:pt x="19819" y="11485"/>
                </a:cubicBezTo>
                <a:cubicBezTo>
                  <a:pt x="19882" y="11514"/>
                  <a:pt x="19960" y="11576"/>
                  <a:pt x="19993" y="11633"/>
                </a:cubicBezTo>
                <a:cubicBezTo>
                  <a:pt x="20022" y="11683"/>
                  <a:pt x="20017" y="11702"/>
                  <a:pt x="20017" y="11757"/>
                </a:cubicBezTo>
                <a:cubicBezTo>
                  <a:pt x="20005" y="11721"/>
                  <a:pt x="19960" y="11733"/>
                  <a:pt x="19943" y="11708"/>
                </a:cubicBezTo>
                <a:cubicBezTo>
                  <a:pt x="19943" y="11683"/>
                  <a:pt x="19943" y="11675"/>
                  <a:pt x="19918" y="11683"/>
                </a:cubicBezTo>
                <a:cubicBezTo>
                  <a:pt x="19950" y="11726"/>
                  <a:pt x="19975" y="11764"/>
                  <a:pt x="20017" y="11807"/>
                </a:cubicBezTo>
                <a:cubicBezTo>
                  <a:pt x="20066" y="11771"/>
                  <a:pt x="20062" y="11656"/>
                  <a:pt x="20117" y="11683"/>
                </a:cubicBezTo>
                <a:cubicBezTo>
                  <a:pt x="20117" y="11691"/>
                  <a:pt x="20117" y="11700"/>
                  <a:pt x="20117" y="1170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91160" y="4643280"/>
            <a:ext cx="625680" cy="420840"/>
          </a:xfrm>
          <a:custGeom>
            <a:avLst/>
            <a:gdLst/>
            <a:ahLst/>
            <a:rect l="l" t="t" r="r" b="b"/>
            <a:pathLst>
              <a:path w="1737" h="1167">
                <a:moveTo>
                  <a:pt x="19348" y="12898"/>
                </a:moveTo>
                <a:cubicBezTo>
                  <a:pt x="19454" y="12898"/>
                  <a:pt x="19778" y="12845"/>
                  <a:pt x="19745" y="12948"/>
                </a:cubicBezTo>
              </a:path>
              <a:path w="1737" h="1167">
                <a:moveTo>
                  <a:pt x="19472" y="13494"/>
                </a:moveTo>
                <a:cubicBezTo>
                  <a:pt x="19480" y="13462"/>
                  <a:pt x="19545" y="13382"/>
                  <a:pt x="19571" y="13370"/>
                </a:cubicBezTo>
                <a:cubicBezTo>
                  <a:pt x="19609" y="13352"/>
                  <a:pt x="19725" y="13379"/>
                  <a:pt x="19745" y="13419"/>
                </a:cubicBezTo>
                <a:cubicBezTo>
                  <a:pt x="19802" y="13531"/>
                  <a:pt x="19687" y="13609"/>
                  <a:pt x="19621" y="13667"/>
                </a:cubicBezTo>
                <a:cubicBezTo>
                  <a:pt x="19598" y="13690"/>
                  <a:pt x="19594" y="13698"/>
                  <a:pt x="19571" y="13692"/>
                </a:cubicBezTo>
                <a:cubicBezTo>
                  <a:pt x="19502" y="13692"/>
                  <a:pt x="19641" y="13663"/>
                  <a:pt x="19645" y="13667"/>
                </a:cubicBezTo>
                <a:cubicBezTo>
                  <a:pt x="19711" y="13727"/>
                  <a:pt x="19700" y="13828"/>
                  <a:pt x="19670" y="13891"/>
                </a:cubicBezTo>
                <a:cubicBezTo>
                  <a:pt x="19629" y="13976"/>
                  <a:pt x="19534" y="13978"/>
                  <a:pt x="19447" y="13990"/>
                </a:cubicBezTo>
                <a:cubicBezTo>
                  <a:pt x="19412" y="13995"/>
                  <a:pt x="19350" y="13989"/>
                  <a:pt x="19397" y="13965"/>
                </a:cubicBezTo>
              </a:path>
              <a:path w="1737" h="1167">
                <a:moveTo>
                  <a:pt x="18231" y="13469"/>
                </a:moveTo>
                <a:cubicBezTo>
                  <a:pt x="18155" y="13469"/>
                  <a:pt x="18084" y="13546"/>
                  <a:pt x="18058" y="13618"/>
                </a:cubicBezTo>
                <a:cubicBezTo>
                  <a:pt x="18001" y="13775"/>
                  <a:pt x="18025" y="13935"/>
                  <a:pt x="18107" y="14064"/>
                </a:cubicBezTo>
                <a:cubicBezTo>
                  <a:pt x="18196" y="14032"/>
                  <a:pt x="18362" y="14010"/>
                  <a:pt x="18380" y="13891"/>
                </a:cubicBezTo>
                <a:cubicBezTo>
                  <a:pt x="18399" y="13764"/>
                  <a:pt x="18394" y="13691"/>
                  <a:pt x="18306" y="13618"/>
                </a:cubicBezTo>
                <a:cubicBezTo>
                  <a:pt x="18266" y="13585"/>
                  <a:pt x="18279" y="13639"/>
                  <a:pt x="18256" y="13692"/>
                </a:cubicBezTo>
              </a:path>
              <a:path w="1737" h="1167">
                <a:moveTo>
                  <a:pt x="18653" y="13940"/>
                </a:moveTo>
                <a:cubicBezTo>
                  <a:pt x="18612" y="13950"/>
                  <a:pt x="18575" y="14035"/>
                  <a:pt x="18628" y="14015"/>
                </a:cubicBezTo>
                <a:cubicBezTo>
                  <a:pt x="18651" y="13992"/>
                  <a:pt x="18662" y="13984"/>
                  <a:pt x="18628" y="13990"/>
                </a:cubicBezTo>
              </a:path>
              <a:path w="1737" h="1167">
                <a:moveTo>
                  <a:pt x="19050" y="13543"/>
                </a:moveTo>
                <a:cubicBezTo>
                  <a:pt x="18929" y="13543"/>
                  <a:pt x="18980" y="13560"/>
                  <a:pt x="18926" y="13667"/>
                </a:cubicBezTo>
                <a:cubicBezTo>
                  <a:pt x="18890" y="13739"/>
                  <a:pt x="18922" y="13783"/>
                  <a:pt x="18926" y="13866"/>
                </a:cubicBezTo>
                <a:cubicBezTo>
                  <a:pt x="18926" y="13907"/>
                  <a:pt x="18926" y="13915"/>
                  <a:pt x="18926" y="13940"/>
                </a:cubicBezTo>
                <a:cubicBezTo>
                  <a:pt x="18981" y="13940"/>
                  <a:pt x="19058" y="13936"/>
                  <a:pt x="19100" y="13891"/>
                </a:cubicBezTo>
                <a:cubicBezTo>
                  <a:pt x="19159" y="13827"/>
                  <a:pt x="19174" y="13776"/>
                  <a:pt x="19174" y="13692"/>
                </a:cubicBezTo>
                <a:cubicBezTo>
                  <a:pt x="19174" y="13640"/>
                  <a:pt x="19170" y="13606"/>
                  <a:pt x="19149" y="13568"/>
                </a:cubicBezTo>
                <a:cubicBezTo>
                  <a:pt x="19135" y="13542"/>
                  <a:pt x="19115" y="13498"/>
                  <a:pt x="19075" y="13519"/>
                </a:cubicBezTo>
                <a:cubicBezTo>
                  <a:pt x="19045" y="13548"/>
                  <a:pt x="19030" y="13559"/>
                  <a:pt x="19000" y="13568"/>
                </a:cubicBezTo>
              </a:path>
              <a:path w="1737" h="1167">
                <a:moveTo>
                  <a:pt x="18256" y="13543"/>
                </a:moveTo>
                <a:cubicBezTo>
                  <a:pt x="18313" y="13586"/>
                  <a:pt x="18336" y="13591"/>
                  <a:pt x="18355" y="1366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4633920"/>
            <a:ext cx="152280" cy="27000"/>
          </a:xfrm>
          <a:custGeom>
            <a:avLst/>
            <a:gdLst/>
            <a:ahLst/>
            <a:rect l="l" t="t" r="r" b="b"/>
            <a:pathLst>
              <a:path w="423" h="75">
                <a:moveTo>
                  <a:pt x="6499" y="12898"/>
                </a:moveTo>
                <a:cubicBezTo>
                  <a:pt x="6527" y="12898"/>
                  <a:pt x="6493" y="12877"/>
                  <a:pt x="6598" y="12898"/>
                </a:cubicBezTo>
                <a:cubicBezTo>
                  <a:pt x="6697" y="12918"/>
                  <a:pt x="6795" y="12941"/>
                  <a:pt x="6896" y="12948"/>
                </a:cubicBezTo>
                <a:cubicBezTo>
                  <a:pt x="6904" y="12948"/>
                  <a:pt x="6913" y="12948"/>
                  <a:pt x="6921" y="12948"/>
                </a:cubicBezTo>
                <a:cubicBezTo>
                  <a:pt x="6834" y="12933"/>
                  <a:pt x="6734" y="12940"/>
                  <a:pt x="6648" y="12923"/>
                </a:cubicBezTo>
                <a:cubicBezTo>
                  <a:pt x="6631" y="12920"/>
                  <a:pt x="6490" y="12898"/>
                  <a:pt x="6548" y="12898"/>
                </a:cubicBezTo>
                <a:cubicBezTo>
                  <a:pt x="6614" y="12898"/>
                  <a:pt x="6681" y="12898"/>
                  <a:pt x="6747" y="12898"/>
                </a:cubicBezTo>
                <a:cubicBezTo>
                  <a:pt x="6780" y="12851"/>
                  <a:pt x="6704" y="12887"/>
                  <a:pt x="6648" y="12898"/>
                </a:cubicBezTo>
                <a:cubicBezTo>
                  <a:pt x="6378" y="12952"/>
                  <a:pt x="6763" y="12881"/>
                  <a:pt x="6796" y="1287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7000" y="4125960"/>
            <a:ext cx="214200" cy="152280"/>
          </a:xfrm>
          <a:custGeom>
            <a:avLst/>
            <a:gdLst/>
            <a:ahLst/>
            <a:rect l="l" t="t" r="r" b="b"/>
            <a:pathLst>
              <a:path w="597" h="422">
                <a:moveTo>
                  <a:pt x="6598" y="11807"/>
                </a:moveTo>
                <a:cubicBezTo>
                  <a:pt x="6562" y="11783"/>
                  <a:pt x="6573" y="11740"/>
                  <a:pt x="6573" y="11683"/>
                </a:cubicBezTo>
                <a:cubicBezTo>
                  <a:pt x="6573" y="11628"/>
                  <a:pt x="6589" y="11600"/>
                  <a:pt x="6598" y="11559"/>
                </a:cubicBezTo>
                <a:cubicBezTo>
                  <a:pt x="6607" y="11518"/>
                  <a:pt x="6619" y="11483"/>
                  <a:pt x="6672" y="11460"/>
                </a:cubicBezTo>
                <a:cubicBezTo>
                  <a:pt x="6740" y="11430"/>
                  <a:pt x="6841" y="11473"/>
                  <a:pt x="6896" y="11485"/>
                </a:cubicBezTo>
                <a:cubicBezTo>
                  <a:pt x="6959" y="11499"/>
                  <a:pt x="6986" y="11517"/>
                  <a:pt x="7020" y="11584"/>
                </a:cubicBezTo>
                <a:cubicBezTo>
                  <a:pt x="7038" y="11620"/>
                  <a:pt x="7078" y="11671"/>
                  <a:pt x="7094" y="11708"/>
                </a:cubicBezTo>
                <a:cubicBezTo>
                  <a:pt x="7104" y="11731"/>
                  <a:pt x="7097" y="11792"/>
                  <a:pt x="7119" y="11807"/>
                </a:cubicBezTo>
                <a:cubicBezTo>
                  <a:pt x="7127" y="11807"/>
                  <a:pt x="7136" y="11807"/>
                  <a:pt x="7144" y="11807"/>
                </a:cubicBezTo>
                <a:cubicBezTo>
                  <a:pt x="7144" y="11735"/>
                  <a:pt x="7163" y="11745"/>
                  <a:pt x="7169" y="11683"/>
                </a:cubicBezTo>
                <a:cubicBezTo>
                  <a:pt x="7169" y="11658"/>
                  <a:pt x="7169" y="11650"/>
                  <a:pt x="7169" y="11633"/>
                </a:cubicBezTo>
                <a:cubicBezTo>
                  <a:pt x="7169" y="11696"/>
                  <a:pt x="7148" y="11747"/>
                  <a:pt x="7144" y="11807"/>
                </a:cubicBezTo>
                <a:cubicBezTo>
                  <a:pt x="7144" y="11848"/>
                  <a:pt x="7144" y="11856"/>
                  <a:pt x="7144" y="11881"/>
                </a:cubicBezTo>
                <a:cubicBezTo>
                  <a:pt x="7093" y="11881"/>
                  <a:pt x="7056" y="11857"/>
                  <a:pt x="7020" y="11832"/>
                </a:cubicBezTo>
                <a:cubicBezTo>
                  <a:pt x="6997" y="11809"/>
                  <a:pt x="6993" y="11801"/>
                  <a:pt x="6970" y="1180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7920" y="4840200"/>
            <a:ext cx="152280" cy="241560"/>
          </a:xfrm>
          <a:custGeom>
            <a:avLst/>
            <a:gdLst/>
            <a:ahLst/>
            <a:rect l="l" t="t" r="r" b="b"/>
            <a:pathLst>
              <a:path w="422" h="671">
                <a:moveTo>
                  <a:pt x="6573" y="13593"/>
                </a:moveTo>
                <a:cubicBezTo>
                  <a:pt x="6565" y="13601"/>
                  <a:pt x="6556" y="13610"/>
                  <a:pt x="6548" y="13618"/>
                </a:cubicBezTo>
                <a:cubicBezTo>
                  <a:pt x="6548" y="13561"/>
                  <a:pt x="6543" y="13544"/>
                  <a:pt x="6573" y="13519"/>
                </a:cubicBezTo>
                <a:cubicBezTo>
                  <a:pt x="6615" y="13484"/>
                  <a:pt x="6649" y="13460"/>
                  <a:pt x="6697" y="13444"/>
                </a:cubicBezTo>
                <a:cubicBezTo>
                  <a:pt x="6749" y="13427"/>
                  <a:pt x="6783" y="13487"/>
                  <a:pt x="6796" y="13494"/>
                </a:cubicBezTo>
                <a:cubicBezTo>
                  <a:pt x="6821" y="13507"/>
                  <a:pt x="6863" y="13541"/>
                  <a:pt x="6846" y="13593"/>
                </a:cubicBezTo>
                <a:cubicBezTo>
                  <a:pt x="6824" y="13659"/>
                  <a:pt x="6756" y="13662"/>
                  <a:pt x="6722" y="13717"/>
                </a:cubicBezTo>
                <a:cubicBezTo>
                  <a:pt x="6707" y="13740"/>
                  <a:pt x="6671" y="13788"/>
                  <a:pt x="6648" y="13816"/>
                </a:cubicBezTo>
                <a:cubicBezTo>
                  <a:pt x="6597" y="13879"/>
                  <a:pt x="6581" y="13939"/>
                  <a:pt x="6548" y="14015"/>
                </a:cubicBezTo>
                <a:cubicBezTo>
                  <a:pt x="6539" y="14037"/>
                  <a:pt x="6524" y="14143"/>
                  <a:pt x="6524" y="14089"/>
                </a:cubicBezTo>
                <a:cubicBezTo>
                  <a:pt x="6524" y="14043"/>
                  <a:pt x="6584" y="14003"/>
                  <a:pt x="6623" y="13990"/>
                </a:cubicBezTo>
                <a:cubicBezTo>
                  <a:pt x="6656" y="13979"/>
                  <a:pt x="6654" y="13961"/>
                  <a:pt x="6697" y="13990"/>
                </a:cubicBezTo>
                <a:cubicBezTo>
                  <a:pt x="6748" y="14024"/>
                  <a:pt x="6731" y="14058"/>
                  <a:pt x="6821" y="14039"/>
                </a:cubicBezTo>
                <a:cubicBezTo>
                  <a:pt x="6881" y="14026"/>
                  <a:pt x="6898" y="14002"/>
                  <a:pt x="6945" y="1399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08160" y="4911840"/>
            <a:ext cx="160200" cy="1602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6300" y="13742"/>
                </a:moveTo>
                <a:cubicBezTo>
                  <a:pt x="6205" y="13645"/>
                  <a:pt x="6144" y="13634"/>
                  <a:pt x="6003" y="13667"/>
                </a:cubicBezTo>
                <a:cubicBezTo>
                  <a:pt x="5903" y="13707"/>
                  <a:pt x="5873" y="13701"/>
                  <a:pt x="5854" y="13767"/>
                </a:cubicBezTo>
                <a:cubicBezTo>
                  <a:pt x="5954" y="13826"/>
                  <a:pt x="6353" y="13933"/>
                  <a:pt x="6152" y="14064"/>
                </a:cubicBezTo>
                <a:cubicBezTo>
                  <a:pt x="6119" y="14072"/>
                  <a:pt x="6085" y="14081"/>
                  <a:pt x="6052" y="14089"/>
                </a:cubicBezTo>
                <a:cubicBezTo>
                  <a:pt x="5983" y="13922"/>
                  <a:pt x="6148" y="13828"/>
                  <a:pt x="6201" y="13667"/>
                </a:cubicBezTo>
                <a:cubicBezTo>
                  <a:pt x="6193" y="13667"/>
                  <a:pt x="6184" y="13667"/>
                  <a:pt x="6176" y="1366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Course 2 November 10, 2011</a:t>
            </a:r>
            <a:br>
              <a:rPr sz="3200"/>
            </a:b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Unit 4 – Decimal Operations &amp; Percent of a Number</a:t>
            </a:r>
            <a:endParaRPr b="0" lang="en-US" sz="32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Objective:  Students will Estimate Decimal Products and Quotients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Estimate Decimal Products and Quotients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What are reasons that would cause someone to estimate instead of just solving a problem?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4" marL="1501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4" marL="150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150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150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150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1501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Objective:  Students will Estimate Decimal Products and Quotients</a:t>
            </a:r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To estimate products or quotients, we will use rounding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Verdana"/>
              </a:rPr>
              <a:t>1.) Estimate 38.9 x 11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Verdana"/>
              </a:rPr>
              <a:t>2.) 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Estimate 492.1 ÷ 21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3.) Would an answer of 12.3 be a reasonable answer for #2?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152960" y="1847880"/>
            <a:ext cx="384120" cy="314280"/>
          </a:xfrm>
          <a:custGeom>
            <a:avLst/>
            <a:gdLst/>
            <a:ahLst/>
            <a:rect l="l" t="t" r="r" b="b"/>
            <a:pathLst>
              <a:path w="1068" h="869">
                <a:moveTo>
                  <a:pt x="11683" y="5358"/>
                </a:moveTo>
                <a:cubicBezTo>
                  <a:pt x="11703" y="5276"/>
                  <a:pt x="11760" y="5212"/>
                  <a:pt x="11857" y="5209"/>
                </a:cubicBezTo>
                <a:cubicBezTo>
                  <a:pt x="11890" y="5217"/>
                  <a:pt x="11923" y="5226"/>
                  <a:pt x="11956" y="5234"/>
                </a:cubicBezTo>
                <a:cubicBezTo>
                  <a:pt x="11921" y="5418"/>
                  <a:pt x="11861" y="5456"/>
                  <a:pt x="11683" y="5531"/>
                </a:cubicBezTo>
                <a:cubicBezTo>
                  <a:pt x="11894" y="5558"/>
                  <a:pt x="12022" y="5661"/>
                  <a:pt x="11832" y="5879"/>
                </a:cubicBezTo>
                <a:cubicBezTo>
                  <a:pt x="11752" y="5971"/>
                  <a:pt x="11574" y="6068"/>
                  <a:pt x="11534" y="5928"/>
                </a:cubicBezTo>
              </a:path>
              <a:path w="1068" h="869">
                <a:moveTo>
                  <a:pt x="12576" y="5507"/>
                </a:moveTo>
                <a:cubicBezTo>
                  <a:pt x="12613" y="5396"/>
                  <a:pt x="12605" y="5295"/>
                  <a:pt x="12502" y="5209"/>
                </a:cubicBezTo>
                <a:cubicBezTo>
                  <a:pt x="12384" y="5111"/>
                  <a:pt x="12208" y="5108"/>
                  <a:pt x="12129" y="5259"/>
                </a:cubicBezTo>
                <a:cubicBezTo>
                  <a:pt x="12012" y="5482"/>
                  <a:pt x="12264" y="5493"/>
                  <a:pt x="12402" y="5457"/>
                </a:cubicBezTo>
                <a:cubicBezTo>
                  <a:pt x="12443" y="5440"/>
                  <a:pt x="12485" y="5424"/>
                  <a:pt x="12526" y="5407"/>
                </a:cubicBezTo>
                <a:cubicBezTo>
                  <a:pt x="12546" y="5367"/>
                  <a:pt x="12555" y="5361"/>
                  <a:pt x="12551" y="5333"/>
                </a:cubicBezTo>
                <a:cubicBezTo>
                  <a:pt x="12569" y="5533"/>
                  <a:pt x="12576" y="5727"/>
                  <a:pt x="12576" y="5928"/>
                </a:cubicBezTo>
                <a:cubicBezTo>
                  <a:pt x="12576" y="5953"/>
                  <a:pt x="12576" y="5961"/>
                  <a:pt x="12576" y="597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53040" y="1874880"/>
            <a:ext cx="1332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14337" y="5308"/>
                </a:moveTo>
                <a:cubicBezTo>
                  <a:pt x="14317" y="5348"/>
                  <a:pt x="14508" y="5461"/>
                  <a:pt x="14560" y="5531"/>
                </a:cubicBezTo>
                <a:cubicBezTo>
                  <a:pt x="14583" y="5561"/>
                  <a:pt x="14625" y="5639"/>
                  <a:pt x="14635" y="5680"/>
                </a:cubicBezTo>
              </a:path>
              <a:path w="373" h="472">
                <a:moveTo>
                  <a:pt x="14684" y="5209"/>
                </a:moveTo>
                <a:cubicBezTo>
                  <a:pt x="14591" y="5335"/>
                  <a:pt x="14527" y="5465"/>
                  <a:pt x="14461" y="5606"/>
                </a:cubicBezTo>
                <a:cubicBezTo>
                  <a:pt x="14453" y="5622"/>
                  <a:pt x="14444" y="5639"/>
                  <a:pt x="14436" y="5655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1866960"/>
            <a:ext cx="17280" cy="249120"/>
          </a:xfrm>
          <a:custGeom>
            <a:avLst/>
            <a:gdLst/>
            <a:ahLst/>
            <a:rect l="l" t="t" r="r" b="b"/>
            <a:pathLst>
              <a:path w="50" h="696">
                <a:moveTo>
                  <a:pt x="16024" y="5184"/>
                </a:moveTo>
                <a:cubicBezTo>
                  <a:pt x="16046" y="5382"/>
                  <a:pt x="16059" y="5580"/>
                  <a:pt x="16073" y="5779"/>
                </a:cubicBezTo>
                <a:cubicBezTo>
                  <a:pt x="16073" y="5829"/>
                  <a:pt x="16073" y="5846"/>
                  <a:pt x="16073" y="587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29200" y="1893960"/>
            <a:ext cx="152640" cy="187200"/>
          </a:xfrm>
          <a:custGeom>
            <a:avLst/>
            <a:gdLst/>
            <a:ahLst/>
            <a:rect l="l" t="t" r="r" b="b"/>
            <a:pathLst>
              <a:path w="423" h="521">
                <a:moveTo>
                  <a:pt x="16570" y="5283"/>
                </a:moveTo>
                <a:cubicBezTo>
                  <a:pt x="16496" y="5377"/>
                  <a:pt x="16440" y="5502"/>
                  <a:pt x="16470" y="5631"/>
                </a:cubicBezTo>
                <a:cubicBezTo>
                  <a:pt x="16504" y="5777"/>
                  <a:pt x="16665" y="5841"/>
                  <a:pt x="16793" y="5755"/>
                </a:cubicBezTo>
                <a:cubicBezTo>
                  <a:pt x="16907" y="5679"/>
                  <a:pt x="16928" y="5455"/>
                  <a:pt x="16842" y="5358"/>
                </a:cubicBezTo>
                <a:cubicBezTo>
                  <a:pt x="16809" y="5321"/>
                  <a:pt x="16731" y="5278"/>
                  <a:pt x="16694" y="525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13320" y="1946160"/>
            <a:ext cx="169920" cy="98640"/>
          </a:xfrm>
          <a:custGeom>
            <a:avLst/>
            <a:gdLst/>
            <a:ahLst/>
            <a:rect l="l" t="t" r="r" b="b"/>
            <a:pathLst>
              <a:path w="472" h="274">
                <a:moveTo>
                  <a:pt x="17537" y="5432"/>
                </a:moveTo>
                <a:cubicBezTo>
                  <a:pt x="17653" y="5417"/>
                  <a:pt x="17761" y="5407"/>
                  <a:pt x="17884" y="5407"/>
                </a:cubicBezTo>
                <a:cubicBezTo>
                  <a:pt x="17934" y="5407"/>
                  <a:pt x="17951" y="5407"/>
                  <a:pt x="17934" y="5457"/>
                </a:cubicBezTo>
              </a:path>
              <a:path w="472" h="274">
                <a:moveTo>
                  <a:pt x="17562" y="5655"/>
                </a:moveTo>
                <a:cubicBezTo>
                  <a:pt x="17670" y="5646"/>
                  <a:pt x="17881" y="5581"/>
                  <a:pt x="17983" y="5631"/>
                </a:cubicBezTo>
                <a:cubicBezTo>
                  <a:pt x="17991" y="5647"/>
                  <a:pt x="18000" y="5664"/>
                  <a:pt x="18008" y="568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77000" y="1839960"/>
            <a:ext cx="376200" cy="26820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18827" y="5209"/>
                </a:moveTo>
                <a:cubicBezTo>
                  <a:pt x="18902" y="5187"/>
                  <a:pt x="18977" y="5146"/>
                  <a:pt x="19050" y="5110"/>
                </a:cubicBezTo>
                <a:cubicBezTo>
                  <a:pt x="19100" y="5226"/>
                  <a:pt x="19135" y="5347"/>
                  <a:pt x="19025" y="5457"/>
                </a:cubicBezTo>
                <a:cubicBezTo>
                  <a:pt x="19017" y="5457"/>
                  <a:pt x="19008" y="5457"/>
                  <a:pt x="19000" y="5457"/>
                </a:cubicBezTo>
                <a:cubicBezTo>
                  <a:pt x="19085" y="5420"/>
                  <a:pt x="19294" y="5447"/>
                  <a:pt x="19248" y="5606"/>
                </a:cubicBezTo>
                <a:cubicBezTo>
                  <a:pt x="19232" y="5662"/>
                  <a:pt x="18955" y="5987"/>
                  <a:pt x="18876" y="5854"/>
                </a:cubicBezTo>
                <a:cubicBezTo>
                  <a:pt x="18868" y="5821"/>
                  <a:pt x="18860" y="5788"/>
                  <a:pt x="18852" y="5755"/>
                </a:cubicBezTo>
              </a:path>
              <a:path w="1043" h="745">
                <a:moveTo>
                  <a:pt x="19869" y="5333"/>
                </a:moveTo>
                <a:cubicBezTo>
                  <a:pt x="19869" y="5246"/>
                  <a:pt x="19803" y="5165"/>
                  <a:pt x="19720" y="5135"/>
                </a:cubicBezTo>
                <a:cubicBezTo>
                  <a:pt x="19552" y="5073"/>
                  <a:pt x="19428" y="5324"/>
                  <a:pt x="19472" y="5457"/>
                </a:cubicBezTo>
                <a:cubicBezTo>
                  <a:pt x="19497" y="5482"/>
                  <a:pt x="19521" y="5506"/>
                  <a:pt x="19546" y="5531"/>
                </a:cubicBezTo>
                <a:cubicBezTo>
                  <a:pt x="19752" y="5463"/>
                  <a:pt x="19745" y="5418"/>
                  <a:pt x="19794" y="5209"/>
                </a:cubicBezTo>
                <a:cubicBezTo>
                  <a:pt x="19819" y="5384"/>
                  <a:pt x="19819" y="5551"/>
                  <a:pt x="19819" y="5730"/>
                </a:cubicBezTo>
                <a:cubicBezTo>
                  <a:pt x="19819" y="5804"/>
                  <a:pt x="19819" y="5813"/>
                  <a:pt x="19819" y="585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96120" y="1884240"/>
            <a:ext cx="142920" cy="196920"/>
          </a:xfrm>
          <a:custGeom>
            <a:avLst/>
            <a:gdLst/>
            <a:ahLst/>
            <a:rect l="l" t="t" r="r" b="b"/>
            <a:pathLst>
              <a:path w="398" h="546">
                <a:moveTo>
                  <a:pt x="20340" y="5234"/>
                </a:moveTo>
                <a:cubicBezTo>
                  <a:pt x="20322" y="5344"/>
                  <a:pt x="20262" y="5468"/>
                  <a:pt x="20265" y="5581"/>
                </a:cubicBezTo>
                <a:cubicBezTo>
                  <a:pt x="20270" y="5811"/>
                  <a:pt x="20443" y="5809"/>
                  <a:pt x="20588" y="5680"/>
                </a:cubicBezTo>
                <a:cubicBezTo>
                  <a:pt x="20662" y="5614"/>
                  <a:pt x="20719" y="5410"/>
                  <a:pt x="20638" y="5333"/>
                </a:cubicBezTo>
                <a:cubicBezTo>
                  <a:pt x="20617" y="5313"/>
                  <a:pt x="20426" y="5172"/>
                  <a:pt x="20389" y="5234"/>
                </a:cubicBezTo>
                <a:cubicBezTo>
                  <a:pt x="20397" y="5242"/>
                  <a:pt x="20406" y="5251"/>
                  <a:pt x="20414" y="525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76960" y="2741760"/>
            <a:ext cx="787320" cy="231480"/>
          </a:xfrm>
          <a:custGeom>
            <a:avLst/>
            <a:gdLst/>
            <a:ahLst/>
            <a:rect l="l" t="t" r="r" b="b"/>
            <a:pathLst>
              <a:path w="2184" h="646">
                <a:moveTo>
                  <a:pt x="17438" y="8012"/>
                </a:moveTo>
                <a:cubicBezTo>
                  <a:pt x="17543" y="7951"/>
                  <a:pt x="17662" y="7946"/>
                  <a:pt x="17785" y="7938"/>
                </a:cubicBezTo>
              </a:path>
              <a:path w="2184" h="646">
                <a:moveTo>
                  <a:pt x="19521" y="7615"/>
                </a:moveTo>
                <a:cubicBezTo>
                  <a:pt x="19533" y="7822"/>
                  <a:pt x="19592" y="8007"/>
                  <a:pt x="19621" y="8210"/>
                </a:cubicBezTo>
                <a:cubicBezTo>
                  <a:pt x="19621" y="8227"/>
                  <a:pt x="19621" y="8243"/>
                  <a:pt x="19621" y="826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70320" y="2847960"/>
            <a:ext cx="9864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14362" y="8086"/>
                </a:moveTo>
                <a:cubicBezTo>
                  <a:pt x="14362" y="8037"/>
                  <a:pt x="14362" y="7987"/>
                  <a:pt x="14362" y="7938"/>
                </a:cubicBezTo>
                <a:cubicBezTo>
                  <a:pt x="14433" y="8043"/>
                  <a:pt x="14523" y="8200"/>
                  <a:pt x="14610" y="8310"/>
                </a:cubicBezTo>
                <a:cubicBezTo>
                  <a:pt x="14638" y="8310"/>
                  <a:pt x="14644" y="8308"/>
                  <a:pt x="14610" y="8285"/>
                </a:cubicBezTo>
              </a:path>
              <a:path w="274" h="472">
                <a:moveTo>
                  <a:pt x="14635" y="7913"/>
                </a:moveTo>
                <a:cubicBezTo>
                  <a:pt x="14557" y="8047"/>
                  <a:pt x="14414" y="8267"/>
                  <a:pt x="14436" y="838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97360" y="2813040"/>
            <a:ext cx="36720" cy="214200"/>
          </a:xfrm>
          <a:custGeom>
            <a:avLst/>
            <a:gdLst/>
            <a:ahLst/>
            <a:rect l="l" t="t" r="r" b="b"/>
            <a:pathLst>
              <a:path w="101" h="597">
                <a:moveTo>
                  <a:pt x="15825" y="7838"/>
                </a:moveTo>
                <a:cubicBezTo>
                  <a:pt x="15825" y="7745"/>
                  <a:pt x="15859" y="7970"/>
                  <a:pt x="15875" y="8062"/>
                </a:cubicBezTo>
                <a:cubicBezTo>
                  <a:pt x="15894" y="8172"/>
                  <a:pt x="15911" y="8297"/>
                  <a:pt x="15925" y="840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00840" y="2820960"/>
            <a:ext cx="27000" cy="179280"/>
          </a:xfrm>
          <a:custGeom>
            <a:avLst/>
            <a:gdLst/>
            <a:ahLst/>
            <a:rect l="l" t="t" r="r" b="b"/>
            <a:pathLst>
              <a:path w="75" h="497">
                <a:moveTo>
                  <a:pt x="16669" y="7838"/>
                </a:moveTo>
                <a:cubicBezTo>
                  <a:pt x="16686" y="7988"/>
                  <a:pt x="16718" y="8136"/>
                  <a:pt x="16743" y="8285"/>
                </a:cubicBezTo>
                <a:cubicBezTo>
                  <a:pt x="16743" y="8310"/>
                  <a:pt x="16743" y="8318"/>
                  <a:pt x="16743" y="833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23040" y="2919240"/>
            <a:ext cx="142920" cy="1800"/>
          </a:xfrm>
          <a:custGeom>
            <a:avLst/>
            <a:gdLst/>
            <a:ahLst/>
            <a:rect l="l" t="t" r="r" b="b"/>
            <a:pathLst>
              <a:path w="398" h="1">
                <a:moveTo>
                  <a:pt x="17562" y="8111"/>
                </a:moveTo>
                <a:cubicBezTo>
                  <a:pt x="17694" y="8111"/>
                  <a:pt x="17827" y="8111"/>
                  <a:pt x="17959" y="811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97800" y="2768760"/>
            <a:ext cx="374400" cy="231480"/>
          </a:xfrm>
          <a:custGeom>
            <a:avLst/>
            <a:gdLst/>
            <a:ahLst/>
            <a:rect l="l" t="t" r="r" b="b"/>
            <a:pathLst>
              <a:path w="1042" h="646">
                <a:moveTo>
                  <a:pt x="18604" y="7838"/>
                </a:moveTo>
                <a:cubicBezTo>
                  <a:pt x="18654" y="7908"/>
                  <a:pt x="18609" y="8023"/>
                  <a:pt x="18604" y="8111"/>
                </a:cubicBezTo>
                <a:cubicBezTo>
                  <a:pt x="18716" y="8111"/>
                  <a:pt x="18816" y="8101"/>
                  <a:pt x="18926" y="8086"/>
                </a:cubicBezTo>
                <a:cubicBezTo>
                  <a:pt x="18934" y="8086"/>
                  <a:pt x="18943" y="8086"/>
                  <a:pt x="18951" y="8086"/>
                </a:cubicBezTo>
              </a:path>
              <a:path w="1042" h="646">
                <a:moveTo>
                  <a:pt x="18951" y="7689"/>
                </a:moveTo>
                <a:cubicBezTo>
                  <a:pt x="18972" y="7877"/>
                  <a:pt x="18975" y="8074"/>
                  <a:pt x="19000" y="8260"/>
                </a:cubicBezTo>
                <a:cubicBezTo>
                  <a:pt x="19022" y="8325"/>
                  <a:pt x="19030" y="8359"/>
                  <a:pt x="19025" y="8285"/>
                </a:cubicBezTo>
              </a:path>
              <a:path w="1042" h="646">
                <a:moveTo>
                  <a:pt x="19273" y="7764"/>
                </a:moveTo>
                <a:cubicBezTo>
                  <a:pt x="19273" y="7840"/>
                  <a:pt x="19252" y="7911"/>
                  <a:pt x="19248" y="7987"/>
                </a:cubicBezTo>
                <a:cubicBezTo>
                  <a:pt x="19243" y="8069"/>
                  <a:pt x="19475" y="8023"/>
                  <a:pt x="19521" y="8012"/>
                </a:cubicBezTo>
                <a:cubicBezTo>
                  <a:pt x="19629" y="7987"/>
                  <a:pt x="19601" y="7995"/>
                  <a:pt x="19645" y="788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05760" y="2776680"/>
            <a:ext cx="162000" cy="188640"/>
          </a:xfrm>
          <a:custGeom>
            <a:avLst/>
            <a:gdLst/>
            <a:ahLst/>
            <a:rect l="l" t="t" r="r" b="b"/>
            <a:pathLst>
              <a:path w="448" h="522">
                <a:moveTo>
                  <a:pt x="20191" y="7714"/>
                </a:moveTo>
                <a:cubicBezTo>
                  <a:pt x="20112" y="7777"/>
                  <a:pt x="20020" y="7942"/>
                  <a:pt x="20017" y="8062"/>
                </a:cubicBezTo>
                <a:cubicBezTo>
                  <a:pt x="20012" y="8241"/>
                  <a:pt x="20224" y="8259"/>
                  <a:pt x="20340" y="8186"/>
                </a:cubicBezTo>
                <a:cubicBezTo>
                  <a:pt x="20451" y="8116"/>
                  <a:pt x="20512" y="7921"/>
                  <a:pt x="20414" y="7813"/>
                </a:cubicBezTo>
                <a:cubicBezTo>
                  <a:pt x="20407" y="7805"/>
                  <a:pt x="20155" y="7706"/>
                  <a:pt x="20290" y="778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60880" y="2759040"/>
            <a:ext cx="411120" cy="241200"/>
          </a:xfrm>
          <a:custGeom>
            <a:avLst/>
            <a:gdLst/>
            <a:ahLst/>
            <a:rect l="l" t="t" r="r" b="b"/>
            <a:pathLst>
              <a:path w="1142" h="670">
                <a:moveTo>
                  <a:pt x="11658" y="7764"/>
                </a:moveTo>
                <a:cubicBezTo>
                  <a:pt x="11658" y="7692"/>
                  <a:pt x="11617" y="7991"/>
                  <a:pt x="11609" y="8012"/>
                </a:cubicBezTo>
                <a:cubicBezTo>
                  <a:pt x="11592" y="8037"/>
                  <a:pt x="11576" y="8061"/>
                  <a:pt x="11559" y="8086"/>
                </a:cubicBezTo>
                <a:cubicBezTo>
                  <a:pt x="11641" y="8006"/>
                  <a:pt x="11742" y="8049"/>
                  <a:pt x="11857" y="8062"/>
                </a:cubicBezTo>
                <a:cubicBezTo>
                  <a:pt x="11911" y="8068"/>
                  <a:pt x="11919" y="8073"/>
                  <a:pt x="11931" y="8037"/>
                </a:cubicBezTo>
              </a:path>
              <a:path w="1142" h="670">
                <a:moveTo>
                  <a:pt x="11931" y="7665"/>
                </a:moveTo>
                <a:cubicBezTo>
                  <a:pt x="11931" y="7883"/>
                  <a:pt x="11932" y="8095"/>
                  <a:pt x="11956" y="8310"/>
                </a:cubicBezTo>
                <a:cubicBezTo>
                  <a:pt x="11959" y="8335"/>
                  <a:pt x="11999" y="8220"/>
                  <a:pt x="12030" y="8161"/>
                </a:cubicBezTo>
              </a:path>
              <a:path w="1142" h="670">
                <a:moveTo>
                  <a:pt x="12402" y="7813"/>
                </a:moveTo>
                <a:cubicBezTo>
                  <a:pt x="12339" y="7926"/>
                  <a:pt x="12315" y="8077"/>
                  <a:pt x="12328" y="8210"/>
                </a:cubicBezTo>
                <a:cubicBezTo>
                  <a:pt x="12348" y="8412"/>
                  <a:pt x="12505" y="8343"/>
                  <a:pt x="12626" y="8260"/>
                </a:cubicBezTo>
                <a:cubicBezTo>
                  <a:pt x="12758" y="8170"/>
                  <a:pt x="12676" y="8033"/>
                  <a:pt x="12601" y="7938"/>
                </a:cubicBezTo>
                <a:cubicBezTo>
                  <a:pt x="12552" y="7875"/>
                  <a:pt x="12488" y="7839"/>
                  <a:pt x="12427" y="786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9800" y="4232160"/>
            <a:ext cx="1009440" cy="277920"/>
          </a:xfrm>
          <a:custGeom>
            <a:avLst/>
            <a:gdLst/>
            <a:ahLst/>
            <a:rect l="l" t="t" r="r" b="b"/>
            <a:pathLst>
              <a:path w="2804" h="770">
                <a:moveTo>
                  <a:pt x="17537" y="11782"/>
                </a:moveTo>
                <a:cubicBezTo>
                  <a:pt x="17703" y="11782"/>
                  <a:pt x="17753" y="11783"/>
                  <a:pt x="17859" y="11757"/>
                </a:cubicBezTo>
              </a:path>
              <a:path w="2804" h="770">
                <a:moveTo>
                  <a:pt x="15056" y="12477"/>
                </a:moveTo>
                <a:cubicBezTo>
                  <a:pt x="15056" y="12493"/>
                  <a:pt x="15056" y="12510"/>
                  <a:pt x="15056" y="1252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05160" y="4160880"/>
            <a:ext cx="546120" cy="260280"/>
          </a:xfrm>
          <a:custGeom>
            <a:avLst/>
            <a:gdLst/>
            <a:ahLst/>
            <a:rect l="l" t="t" r="r" b="b"/>
            <a:pathLst>
              <a:path w="1514" h="720">
                <a:moveTo>
                  <a:pt x="12080" y="11559"/>
                </a:moveTo>
                <a:cubicBezTo>
                  <a:pt x="12068" y="11594"/>
                  <a:pt x="11979" y="11605"/>
                  <a:pt x="11931" y="11609"/>
                </a:cubicBezTo>
                <a:cubicBezTo>
                  <a:pt x="11875" y="11614"/>
                  <a:pt x="11814" y="11609"/>
                  <a:pt x="11757" y="11609"/>
                </a:cubicBezTo>
                <a:cubicBezTo>
                  <a:pt x="11757" y="11725"/>
                  <a:pt x="11757" y="11840"/>
                  <a:pt x="11757" y="11956"/>
                </a:cubicBezTo>
                <a:cubicBezTo>
                  <a:pt x="11845" y="11943"/>
                  <a:pt x="12044" y="11890"/>
                  <a:pt x="12080" y="12030"/>
                </a:cubicBezTo>
                <a:cubicBezTo>
                  <a:pt x="12128" y="12214"/>
                  <a:pt x="11841" y="12334"/>
                  <a:pt x="11708" y="12254"/>
                </a:cubicBezTo>
                <a:cubicBezTo>
                  <a:pt x="11700" y="12237"/>
                  <a:pt x="11691" y="12221"/>
                  <a:pt x="11683" y="12204"/>
                </a:cubicBezTo>
              </a:path>
              <a:path w="1514" h="720">
                <a:moveTo>
                  <a:pt x="12427" y="11683"/>
                </a:moveTo>
                <a:cubicBezTo>
                  <a:pt x="12342" y="11819"/>
                  <a:pt x="12321" y="11922"/>
                  <a:pt x="12353" y="12080"/>
                </a:cubicBezTo>
                <a:cubicBezTo>
                  <a:pt x="12361" y="12105"/>
                  <a:pt x="12370" y="12129"/>
                  <a:pt x="12378" y="12154"/>
                </a:cubicBezTo>
                <a:cubicBezTo>
                  <a:pt x="12509" y="12154"/>
                  <a:pt x="12792" y="12055"/>
                  <a:pt x="12601" y="11857"/>
                </a:cubicBezTo>
                <a:cubicBezTo>
                  <a:pt x="12506" y="11758"/>
                  <a:pt x="12395" y="11782"/>
                  <a:pt x="12278" y="11782"/>
                </a:cubicBezTo>
              </a:path>
              <a:path w="1514" h="720">
                <a:moveTo>
                  <a:pt x="12874" y="11733"/>
                </a:moveTo>
                <a:cubicBezTo>
                  <a:pt x="12761" y="11844"/>
                  <a:pt x="12740" y="11956"/>
                  <a:pt x="12824" y="12105"/>
                </a:cubicBezTo>
                <a:cubicBezTo>
                  <a:pt x="12946" y="12321"/>
                  <a:pt x="13145" y="12191"/>
                  <a:pt x="13196" y="12005"/>
                </a:cubicBezTo>
                <a:cubicBezTo>
                  <a:pt x="13196" y="11964"/>
                  <a:pt x="13196" y="11922"/>
                  <a:pt x="13196" y="11881"/>
                </a:cubicBezTo>
                <a:cubicBezTo>
                  <a:pt x="13058" y="11789"/>
                  <a:pt x="12986" y="11775"/>
                  <a:pt x="12824" y="11807"/>
                </a:cubicBezTo>
                <a:cubicBezTo>
                  <a:pt x="12816" y="11807"/>
                  <a:pt x="12807" y="11807"/>
                  <a:pt x="12799" y="1180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0040" y="4062240"/>
            <a:ext cx="892080" cy="287640"/>
          </a:xfrm>
          <a:custGeom>
            <a:avLst/>
            <a:gdLst/>
            <a:ahLst/>
            <a:rect l="l" t="t" r="r" b="b"/>
            <a:pathLst>
              <a:path w="2481" h="795">
                <a:moveTo>
                  <a:pt x="15627" y="11385"/>
                </a:moveTo>
                <a:cubicBezTo>
                  <a:pt x="15700" y="11313"/>
                  <a:pt x="15764" y="11270"/>
                  <a:pt x="15875" y="11286"/>
                </a:cubicBezTo>
                <a:cubicBezTo>
                  <a:pt x="16016" y="11306"/>
                  <a:pt x="16065" y="11403"/>
                  <a:pt x="16024" y="11534"/>
                </a:cubicBezTo>
                <a:cubicBezTo>
                  <a:pt x="15977" y="11686"/>
                  <a:pt x="15834" y="11781"/>
                  <a:pt x="15751" y="11906"/>
                </a:cubicBezTo>
                <a:cubicBezTo>
                  <a:pt x="15703" y="11978"/>
                  <a:pt x="15687" y="12001"/>
                  <a:pt x="15677" y="12080"/>
                </a:cubicBezTo>
                <a:cubicBezTo>
                  <a:pt x="15607" y="12057"/>
                  <a:pt x="15745" y="11906"/>
                  <a:pt x="15776" y="11881"/>
                </a:cubicBezTo>
                <a:cubicBezTo>
                  <a:pt x="15857" y="11841"/>
                  <a:pt x="15870" y="11825"/>
                  <a:pt x="15925" y="11832"/>
                </a:cubicBezTo>
                <a:cubicBezTo>
                  <a:pt x="16015" y="11973"/>
                  <a:pt x="16074" y="12019"/>
                  <a:pt x="16247" y="12030"/>
                </a:cubicBezTo>
                <a:cubicBezTo>
                  <a:pt x="16305" y="12030"/>
                  <a:pt x="16329" y="12046"/>
                  <a:pt x="16321" y="12005"/>
                </a:cubicBezTo>
              </a:path>
              <a:path w="2481" h="795">
                <a:moveTo>
                  <a:pt x="16545" y="11385"/>
                </a:moveTo>
                <a:cubicBezTo>
                  <a:pt x="16463" y="11500"/>
                  <a:pt x="16434" y="11613"/>
                  <a:pt x="16446" y="11757"/>
                </a:cubicBezTo>
                <a:cubicBezTo>
                  <a:pt x="16456" y="11877"/>
                  <a:pt x="16500" y="12049"/>
                  <a:pt x="16669" y="11981"/>
                </a:cubicBezTo>
                <a:cubicBezTo>
                  <a:pt x="16842" y="11911"/>
                  <a:pt x="16876" y="11742"/>
                  <a:pt x="16842" y="11584"/>
                </a:cubicBezTo>
                <a:cubicBezTo>
                  <a:pt x="16816" y="11461"/>
                  <a:pt x="16677" y="11437"/>
                  <a:pt x="16570" y="11410"/>
                </a:cubicBezTo>
              </a:path>
              <a:path w="2481" h="795">
                <a:moveTo>
                  <a:pt x="14387" y="11782"/>
                </a:moveTo>
                <a:cubicBezTo>
                  <a:pt x="14436" y="11707"/>
                  <a:pt x="14620" y="11748"/>
                  <a:pt x="14709" y="11757"/>
                </a:cubicBezTo>
                <a:cubicBezTo>
                  <a:pt x="14854" y="11772"/>
                  <a:pt x="14986" y="11782"/>
                  <a:pt x="15131" y="1178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69040" y="4143240"/>
            <a:ext cx="196920" cy="420840"/>
          </a:xfrm>
          <a:custGeom>
            <a:avLst/>
            <a:gdLst/>
            <a:ahLst/>
            <a:rect l="l" t="t" r="r" b="b"/>
            <a:pathLst>
              <a:path w="547" h="1167">
                <a:moveTo>
                  <a:pt x="17413" y="11534"/>
                </a:moveTo>
                <a:cubicBezTo>
                  <a:pt x="17593" y="11534"/>
                  <a:pt x="17791" y="11510"/>
                  <a:pt x="17959" y="11534"/>
                </a:cubicBezTo>
              </a:path>
              <a:path w="547" h="1167">
                <a:moveTo>
                  <a:pt x="17462" y="12675"/>
                </a:moveTo>
                <a:cubicBezTo>
                  <a:pt x="17537" y="12662"/>
                  <a:pt x="17663" y="12615"/>
                  <a:pt x="17735" y="12626"/>
                </a:cubicBezTo>
                <a:cubicBezTo>
                  <a:pt x="17735" y="12634"/>
                  <a:pt x="17735" y="12642"/>
                  <a:pt x="17735" y="1265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69080" y="3983040"/>
            <a:ext cx="428760" cy="249120"/>
          </a:xfrm>
          <a:custGeom>
            <a:avLst/>
            <a:gdLst/>
            <a:ahLst/>
            <a:rect l="l" t="t" r="r" b="b"/>
            <a:pathLst>
              <a:path w="1192" h="695">
                <a:moveTo>
                  <a:pt x="19025" y="11237"/>
                </a:moveTo>
                <a:cubicBezTo>
                  <a:pt x="19017" y="11237"/>
                  <a:pt x="19008" y="11237"/>
                  <a:pt x="19000" y="11237"/>
                </a:cubicBezTo>
                <a:cubicBezTo>
                  <a:pt x="19071" y="11148"/>
                  <a:pt x="19316" y="11080"/>
                  <a:pt x="19323" y="11311"/>
                </a:cubicBezTo>
                <a:cubicBezTo>
                  <a:pt x="19332" y="11630"/>
                  <a:pt x="19004" y="11754"/>
                  <a:pt x="18802" y="11683"/>
                </a:cubicBezTo>
                <a:cubicBezTo>
                  <a:pt x="18946" y="11510"/>
                  <a:pt x="19081" y="11390"/>
                  <a:pt x="19248" y="11633"/>
                </a:cubicBezTo>
                <a:cubicBezTo>
                  <a:pt x="19267" y="11691"/>
                  <a:pt x="19258" y="11716"/>
                  <a:pt x="19298" y="11708"/>
                </a:cubicBezTo>
              </a:path>
              <a:path w="1192" h="695">
                <a:moveTo>
                  <a:pt x="19943" y="11063"/>
                </a:moveTo>
                <a:cubicBezTo>
                  <a:pt x="19887" y="11105"/>
                  <a:pt x="19817" y="11088"/>
                  <a:pt x="19745" y="11088"/>
                </a:cubicBezTo>
                <a:cubicBezTo>
                  <a:pt x="19664" y="11088"/>
                  <a:pt x="19619" y="11272"/>
                  <a:pt x="19596" y="11336"/>
                </a:cubicBezTo>
                <a:cubicBezTo>
                  <a:pt x="19588" y="11361"/>
                  <a:pt x="19579" y="11385"/>
                  <a:pt x="19571" y="11410"/>
                </a:cubicBezTo>
                <a:cubicBezTo>
                  <a:pt x="19668" y="11410"/>
                  <a:pt x="19750" y="11323"/>
                  <a:pt x="19844" y="11336"/>
                </a:cubicBezTo>
                <a:cubicBezTo>
                  <a:pt x="20037" y="11362"/>
                  <a:pt x="20034" y="11618"/>
                  <a:pt x="19869" y="11683"/>
                </a:cubicBezTo>
                <a:cubicBezTo>
                  <a:pt x="19701" y="11707"/>
                  <a:pt x="19649" y="11717"/>
                  <a:pt x="19546" y="1165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13240" y="4125960"/>
            <a:ext cx="1108080" cy="482400"/>
          </a:xfrm>
          <a:custGeom>
            <a:avLst/>
            <a:gdLst/>
            <a:ahLst/>
            <a:rect l="l" t="t" r="r" b="b"/>
            <a:pathLst>
              <a:path w="3077" h="1340">
                <a:moveTo>
                  <a:pt x="14833" y="11460"/>
                </a:moveTo>
                <a:cubicBezTo>
                  <a:pt x="14825" y="11460"/>
                  <a:pt x="14816" y="11460"/>
                  <a:pt x="14808" y="11460"/>
                </a:cubicBezTo>
              </a:path>
              <a:path w="3077" h="1340">
                <a:moveTo>
                  <a:pt x="14759" y="12105"/>
                </a:moveTo>
                <a:cubicBezTo>
                  <a:pt x="14759" y="12113"/>
                  <a:pt x="14759" y="12121"/>
                  <a:pt x="14759" y="12129"/>
                </a:cubicBezTo>
              </a:path>
              <a:path w="3077" h="1340">
                <a:moveTo>
                  <a:pt x="17611" y="12799"/>
                </a:moveTo>
                <a:cubicBezTo>
                  <a:pt x="17735" y="12778"/>
                  <a:pt x="17759" y="12770"/>
                  <a:pt x="17835" y="1277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48160" y="4518000"/>
            <a:ext cx="625680" cy="162000"/>
          </a:xfrm>
          <a:custGeom>
            <a:avLst/>
            <a:gdLst/>
            <a:ahLst/>
            <a:rect l="l" t="t" r="r" b="b"/>
            <a:pathLst>
              <a:path w="1737" h="448">
                <a:moveTo>
                  <a:pt x="14858" y="12675"/>
                </a:moveTo>
                <a:cubicBezTo>
                  <a:pt x="14898" y="12735"/>
                  <a:pt x="15076" y="12723"/>
                  <a:pt x="15156" y="12725"/>
                </a:cubicBezTo>
                <a:cubicBezTo>
                  <a:pt x="15214" y="12725"/>
                  <a:pt x="15222" y="12725"/>
                  <a:pt x="15255" y="12725"/>
                </a:cubicBezTo>
              </a:path>
              <a:path w="1737" h="448">
                <a:moveTo>
                  <a:pt x="15503" y="12601"/>
                </a:moveTo>
                <a:cubicBezTo>
                  <a:pt x="15649" y="12559"/>
                  <a:pt x="15832" y="12484"/>
                  <a:pt x="15949" y="12626"/>
                </a:cubicBezTo>
                <a:cubicBezTo>
                  <a:pt x="16125" y="12839"/>
                  <a:pt x="15860" y="13002"/>
                  <a:pt x="15677" y="12998"/>
                </a:cubicBezTo>
                <a:cubicBezTo>
                  <a:pt x="15553" y="12995"/>
                  <a:pt x="15542" y="12957"/>
                  <a:pt x="15553" y="12874"/>
                </a:cubicBezTo>
                <a:cubicBezTo>
                  <a:pt x="15743" y="12856"/>
                  <a:pt x="15852" y="12885"/>
                  <a:pt x="16024" y="12948"/>
                </a:cubicBezTo>
                <a:cubicBezTo>
                  <a:pt x="16065" y="12948"/>
                  <a:pt x="16090" y="12948"/>
                  <a:pt x="16123" y="12948"/>
                </a:cubicBezTo>
              </a:path>
              <a:path w="1737" h="448">
                <a:moveTo>
                  <a:pt x="16421" y="12576"/>
                </a:moveTo>
                <a:cubicBezTo>
                  <a:pt x="16308" y="12604"/>
                  <a:pt x="16231" y="12746"/>
                  <a:pt x="16247" y="12874"/>
                </a:cubicBezTo>
                <a:cubicBezTo>
                  <a:pt x="16264" y="12907"/>
                  <a:pt x="16280" y="12940"/>
                  <a:pt x="16297" y="12973"/>
                </a:cubicBezTo>
                <a:cubicBezTo>
                  <a:pt x="16404" y="12973"/>
                  <a:pt x="16716" y="12896"/>
                  <a:pt x="16570" y="12700"/>
                </a:cubicBezTo>
                <a:cubicBezTo>
                  <a:pt x="16458" y="12644"/>
                  <a:pt x="16412" y="12630"/>
                  <a:pt x="16321" y="12675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54840" y="5205240"/>
            <a:ext cx="982440" cy="73080"/>
          </a:xfrm>
          <a:custGeom>
            <a:avLst/>
            <a:gdLst/>
            <a:ahLst/>
            <a:rect l="l" t="t" r="r" b="b"/>
            <a:pathLst>
              <a:path w="2729" h="200">
                <a:moveTo>
                  <a:pt x="16818" y="14486"/>
                </a:moveTo>
                <a:cubicBezTo>
                  <a:pt x="16860" y="14477"/>
                  <a:pt x="16868" y="14502"/>
                  <a:pt x="16942" y="14560"/>
                </a:cubicBezTo>
                <a:cubicBezTo>
                  <a:pt x="17048" y="14643"/>
                  <a:pt x="17190" y="14617"/>
                  <a:pt x="17314" y="14585"/>
                </a:cubicBezTo>
                <a:cubicBezTo>
                  <a:pt x="17359" y="14573"/>
                  <a:pt x="17401" y="14552"/>
                  <a:pt x="17438" y="14536"/>
                </a:cubicBezTo>
                <a:cubicBezTo>
                  <a:pt x="17524" y="14636"/>
                  <a:pt x="17631" y="14606"/>
                  <a:pt x="17760" y="14560"/>
                </a:cubicBezTo>
                <a:cubicBezTo>
                  <a:pt x="17880" y="14517"/>
                  <a:pt x="17913" y="14495"/>
                  <a:pt x="18033" y="14536"/>
                </a:cubicBezTo>
                <a:cubicBezTo>
                  <a:pt x="18175" y="14584"/>
                  <a:pt x="18332" y="14608"/>
                  <a:pt x="18479" y="14560"/>
                </a:cubicBezTo>
                <a:cubicBezTo>
                  <a:pt x="18517" y="14548"/>
                  <a:pt x="18503" y="14543"/>
                  <a:pt x="18554" y="14536"/>
                </a:cubicBezTo>
                <a:cubicBezTo>
                  <a:pt x="18631" y="14612"/>
                  <a:pt x="18754" y="14649"/>
                  <a:pt x="18876" y="14635"/>
                </a:cubicBezTo>
                <a:cubicBezTo>
                  <a:pt x="19023" y="14618"/>
                  <a:pt x="19051" y="14626"/>
                  <a:pt x="19199" y="14635"/>
                </a:cubicBezTo>
                <a:cubicBezTo>
                  <a:pt x="19318" y="14642"/>
                  <a:pt x="19429" y="14649"/>
                  <a:pt x="19546" y="1466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00920" y="5749920"/>
            <a:ext cx="598320" cy="474840"/>
          </a:xfrm>
          <a:custGeom>
            <a:avLst/>
            <a:gdLst/>
            <a:ahLst/>
            <a:rect l="l" t="t" r="r" b="b"/>
            <a:pathLst>
              <a:path w="1663" h="1316">
                <a:moveTo>
                  <a:pt x="19546" y="16396"/>
                </a:moveTo>
                <a:cubicBezTo>
                  <a:pt x="19484" y="16365"/>
                  <a:pt x="19569" y="16484"/>
                  <a:pt x="19596" y="16570"/>
                </a:cubicBezTo>
                <a:cubicBezTo>
                  <a:pt x="19672" y="16810"/>
                  <a:pt x="19754" y="17047"/>
                  <a:pt x="19819" y="17289"/>
                </a:cubicBezTo>
                <a:cubicBezTo>
                  <a:pt x="19730" y="17048"/>
                  <a:pt x="19639" y="16802"/>
                  <a:pt x="19521" y="16570"/>
                </a:cubicBezTo>
                <a:cubicBezTo>
                  <a:pt x="19467" y="16480"/>
                  <a:pt x="19443" y="16479"/>
                  <a:pt x="19447" y="16421"/>
                </a:cubicBezTo>
                <a:cubicBezTo>
                  <a:pt x="19692" y="16589"/>
                  <a:pt x="19944" y="16776"/>
                  <a:pt x="20216" y="16917"/>
                </a:cubicBezTo>
                <a:cubicBezTo>
                  <a:pt x="20342" y="16971"/>
                  <a:pt x="20364" y="16960"/>
                  <a:pt x="20414" y="17016"/>
                </a:cubicBezTo>
                <a:cubicBezTo>
                  <a:pt x="20300" y="16690"/>
                  <a:pt x="20112" y="16413"/>
                  <a:pt x="20042" y="16073"/>
                </a:cubicBezTo>
                <a:cubicBezTo>
                  <a:pt x="20042" y="15999"/>
                  <a:pt x="20017" y="15966"/>
                  <a:pt x="20067" y="15974"/>
                </a:cubicBezTo>
              </a:path>
              <a:path w="1663" h="1316">
                <a:moveTo>
                  <a:pt x="20786" y="16123"/>
                </a:moveTo>
                <a:cubicBezTo>
                  <a:pt x="20712" y="16423"/>
                  <a:pt x="20658" y="16562"/>
                  <a:pt x="20910" y="16743"/>
                </a:cubicBezTo>
                <a:cubicBezTo>
                  <a:pt x="21051" y="16553"/>
                  <a:pt x="21282" y="16155"/>
                  <a:pt x="20836" y="16123"/>
                </a:cubicBezTo>
                <a:cubicBezTo>
                  <a:pt x="20786" y="16140"/>
                  <a:pt x="20737" y="16156"/>
                  <a:pt x="20687" y="1617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4537080"/>
            <a:ext cx="268200" cy="1778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13022" y="12601"/>
                </a:moveTo>
                <a:cubicBezTo>
                  <a:pt x="12954" y="12670"/>
                  <a:pt x="12879" y="12880"/>
                  <a:pt x="12923" y="12998"/>
                </a:cubicBezTo>
                <a:cubicBezTo>
                  <a:pt x="12948" y="13023"/>
                  <a:pt x="12973" y="13047"/>
                  <a:pt x="12998" y="13072"/>
                </a:cubicBezTo>
                <a:cubicBezTo>
                  <a:pt x="13148" y="13025"/>
                  <a:pt x="13370" y="12910"/>
                  <a:pt x="13221" y="12700"/>
                </a:cubicBezTo>
                <a:cubicBezTo>
                  <a:pt x="13169" y="12627"/>
                  <a:pt x="13024" y="12632"/>
                  <a:pt x="12948" y="12626"/>
                </a:cubicBezTo>
              </a:path>
              <a:path w="745" h="497">
                <a:moveTo>
                  <a:pt x="12675" y="12700"/>
                </a:moveTo>
                <a:cubicBezTo>
                  <a:pt x="12675" y="12675"/>
                  <a:pt x="12675" y="12667"/>
                  <a:pt x="12675" y="12650"/>
                </a:cubicBezTo>
                <a:cubicBezTo>
                  <a:pt x="12630" y="12618"/>
                  <a:pt x="12569" y="12628"/>
                  <a:pt x="12526" y="12675"/>
                </a:cubicBezTo>
                <a:cubicBezTo>
                  <a:pt x="12454" y="12754"/>
                  <a:pt x="12569" y="12809"/>
                  <a:pt x="12626" y="12849"/>
                </a:cubicBezTo>
                <a:cubicBezTo>
                  <a:pt x="12685" y="12890"/>
                  <a:pt x="12732" y="12919"/>
                  <a:pt x="12750" y="12998"/>
                </a:cubicBezTo>
                <a:cubicBezTo>
                  <a:pt x="12769" y="13084"/>
                  <a:pt x="12612" y="13150"/>
                  <a:pt x="12576" y="13072"/>
                </a:cubicBezTo>
                <a:cubicBezTo>
                  <a:pt x="12548" y="13011"/>
                  <a:pt x="12588" y="12961"/>
                  <a:pt x="12626" y="12923"/>
                </a:cubicBezTo>
                <a:cubicBezTo>
                  <a:pt x="12667" y="12882"/>
                  <a:pt x="12799" y="12790"/>
                  <a:pt x="12799" y="12725"/>
                </a:cubicBezTo>
                <a:cubicBezTo>
                  <a:pt x="12799" y="12716"/>
                  <a:pt x="12706" y="12701"/>
                  <a:pt x="12700" y="1270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6160" y="4527720"/>
            <a:ext cx="115920" cy="17928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11931" y="12650"/>
                </a:moveTo>
                <a:cubicBezTo>
                  <a:pt x="11981" y="12684"/>
                  <a:pt x="11971" y="12828"/>
                  <a:pt x="11931" y="12898"/>
                </a:cubicBezTo>
                <a:cubicBezTo>
                  <a:pt x="11923" y="12898"/>
                  <a:pt x="11914" y="12898"/>
                  <a:pt x="11906" y="12898"/>
                </a:cubicBezTo>
                <a:cubicBezTo>
                  <a:pt x="12034" y="12883"/>
                  <a:pt x="12105" y="12857"/>
                  <a:pt x="12229" y="12898"/>
                </a:cubicBezTo>
              </a:path>
              <a:path w="324" h="497">
                <a:moveTo>
                  <a:pt x="12179" y="12576"/>
                </a:moveTo>
                <a:cubicBezTo>
                  <a:pt x="12188" y="12742"/>
                  <a:pt x="12196" y="12911"/>
                  <a:pt x="12229" y="1307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02160" y="466092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5007" y="12948"/>
                </a:moveTo>
                <a:cubicBezTo>
                  <a:pt x="15015" y="12948"/>
                  <a:pt x="15024" y="12948"/>
                  <a:pt x="15032" y="12948"/>
                </a:cubicBezTo>
              </a:path>
              <a:path w="26" h="1">
                <a:moveTo>
                  <a:pt x="15032" y="12948"/>
                </a:moveTo>
                <a:lnTo>
                  <a:pt x="15032" y="12948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61080" y="4411800"/>
            <a:ext cx="428760" cy="2854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8752" y="12452"/>
                </a:moveTo>
                <a:cubicBezTo>
                  <a:pt x="18830" y="12390"/>
                  <a:pt x="18816" y="12411"/>
                  <a:pt x="18926" y="12427"/>
                </a:cubicBezTo>
                <a:cubicBezTo>
                  <a:pt x="18972" y="12634"/>
                  <a:pt x="18907" y="12801"/>
                  <a:pt x="18678" y="12898"/>
                </a:cubicBezTo>
                <a:cubicBezTo>
                  <a:pt x="18570" y="12916"/>
                  <a:pt x="18563" y="12924"/>
                  <a:pt x="18504" y="12923"/>
                </a:cubicBezTo>
                <a:cubicBezTo>
                  <a:pt x="18580" y="12735"/>
                  <a:pt x="18712" y="12659"/>
                  <a:pt x="18926" y="12774"/>
                </a:cubicBezTo>
                <a:cubicBezTo>
                  <a:pt x="18976" y="12801"/>
                  <a:pt x="18976" y="12920"/>
                  <a:pt x="18976" y="12874"/>
                </a:cubicBezTo>
              </a:path>
              <a:path w="1192" h="794">
                <a:moveTo>
                  <a:pt x="19298" y="12378"/>
                </a:moveTo>
                <a:cubicBezTo>
                  <a:pt x="19365" y="12444"/>
                  <a:pt x="19313" y="12515"/>
                  <a:pt x="19348" y="12601"/>
                </a:cubicBezTo>
                <a:cubicBezTo>
                  <a:pt x="19385" y="12694"/>
                  <a:pt x="19589" y="12642"/>
                  <a:pt x="19645" y="12601"/>
                </a:cubicBezTo>
                <a:cubicBezTo>
                  <a:pt x="19677" y="12537"/>
                  <a:pt x="19689" y="12506"/>
                  <a:pt x="19695" y="12452"/>
                </a:cubicBezTo>
              </a:path>
              <a:path w="1192" h="794">
                <a:moveTo>
                  <a:pt x="19621" y="12254"/>
                </a:moveTo>
                <a:cubicBezTo>
                  <a:pt x="19621" y="12425"/>
                  <a:pt x="19611" y="12604"/>
                  <a:pt x="19596" y="12774"/>
                </a:cubicBezTo>
                <a:cubicBezTo>
                  <a:pt x="19587" y="12876"/>
                  <a:pt x="19548" y="12984"/>
                  <a:pt x="19596" y="1304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Verdana"/>
              </a:rPr>
              <a:t>Objective:  Students will Estimate Decimal Products and Quotient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3ccff"/>
                </a:solidFill>
                <a:latin typeface="Verdana"/>
              </a:rPr>
              <a:t>When estimating using compatible numbers, round to numbers which “work well together.”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Estimate using compatible numbers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.)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56.384 x 4.8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.) 276.96 ÷ 9.38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3.) Use compatible numbers to check that the calculation 29 x 151.8 = 4,402.2 is reasonable.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4.) Use compatible numbers to check that the calculation 78.39 ÷ 8 = 37.61 is reasonable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6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64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64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64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564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1455840" y="2268360"/>
            <a:ext cx="339480" cy="177840"/>
          </a:xfrm>
          <a:custGeom>
            <a:avLst/>
            <a:gdLst/>
            <a:ahLst/>
            <a:rect l="l" t="t" r="r" b="b"/>
            <a:pathLst>
              <a:path w="944" h="497">
                <a:moveTo>
                  <a:pt x="4142" y="6325"/>
                </a:moveTo>
                <a:cubicBezTo>
                  <a:pt x="4120" y="6302"/>
                  <a:pt x="4098" y="6371"/>
                  <a:pt x="4093" y="6424"/>
                </a:cubicBezTo>
                <a:cubicBezTo>
                  <a:pt x="4087" y="6479"/>
                  <a:pt x="4052" y="6520"/>
                  <a:pt x="4043" y="6573"/>
                </a:cubicBezTo>
                <a:cubicBezTo>
                  <a:pt x="4034" y="6623"/>
                  <a:pt x="4037" y="6686"/>
                  <a:pt x="4068" y="6722"/>
                </a:cubicBezTo>
                <a:cubicBezTo>
                  <a:pt x="4133" y="6797"/>
                  <a:pt x="4255" y="6792"/>
                  <a:pt x="4341" y="6747"/>
                </a:cubicBezTo>
                <a:cubicBezTo>
                  <a:pt x="4416" y="6708"/>
                  <a:pt x="4448" y="6665"/>
                  <a:pt x="4490" y="6598"/>
                </a:cubicBezTo>
                <a:cubicBezTo>
                  <a:pt x="4449" y="6573"/>
                  <a:pt x="4403" y="6550"/>
                  <a:pt x="4366" y="6598"/>
                </a:cubicBezTo>
                <a:cubicBezTo>
                  <a:pt x="4292" y="6693"/>
                  <a:pt x="4303" y="6723"/>
                  <a:pt x="4366" y="6796"/>
                </a:cubicBezTo>
              </a:path>
              <a:path w="944" h="497">
                <a:moveTo>
                  <a:pt x="4837" y="6375"/>
                </a:moveTo>
                <a:cubicBezTo>
                  <a:pt x="4691" y="6467"/>
                  <a:pt x="4693" y="6551"/>
                  <a:pt x="4713" y="6722"/>
                </a:cubicBezTo>
                <a:cubicBezTo>
                  <a:pt x="4813" y="6714"/>
                  <a:pt x="4981" y="6715"/>
                  <a:pt x="4986" y="6573"/>
                </a:cubicBezTo>
                <a:cubicBezTo>
                  <a:pt x="4988" y="6522"/>
                  <a:pt x="4934" y="6445"/>
                  <a:pt x="4911" y="640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01920" y="2268360"/>
            <a:ext cx="876240" cy="115920"/>
          </a:xfrm>
          <a:custGeom>
            <a:avLst/>
            <a:gdLst/>
            <a:ahLst/>
            <a:rect l="l" t="t" r="r" b="b"/>
            <a:pathLst>
              <a:path w="2432" h="324">
                <a:moveTo>
                  <a:pt x="6672" y="6325"/>
                </a:moveTo>
                <a:cubicBezTo>
                  <a:pt x="6749" y="6425"/>
                  <a:pt x="6823" y="6522"/>
                  <a:pt x="6896" y="6623"/>
                </a:cubicBezTo>
              </a:path>
              <a:path w="2432" h="324">
                <a:moveTo>
                  <a:pt x="8855" y="6375"/>
                </a:moveTo>
                <a:cubicBezTo>
                  <a:pt x="8922" y="6336"/>
                  <a:pt x="8953" y="6313"/>
                  <a:pt x="9029" y="6300"/>
                </a:cubicBezTo>
              </a:path>
              <a:path w="2432" h="324">
                <a:moveTo>
                  <a:pt x="8830" y="6474"/>
                </a:moveTo>
                <a:cubicBezTo>
                  <a:pt x="8922" y="6451"/>
                  <a:pt x="9012" y="6427"/>
                  <a:pt x="9103" y="640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9200" y="2268360"/>
            <a:ext cx="90720" cy="125640"/>
          </a:xfrm>
          <a:custGeom>
            <a:avLst/>
            <a:gdLst/>
            <a:ahLst/>
            <a:rect l="l" t="t" r="r" b="b"/>
            <a:pathLst>
              <a:path w="249" h="349">
                <a:moveTo>
                  <a:pt x="6970" y="6300"/>
                </a:moveTo>
                <a:cubicBezTo>
                  <a:pt x="6881" y="6398"/>
                  <a:pt x="6783" y="6508"/>
                  <a:pt x="6722" y="6623"/>
                </a:cubicBezTo>
                <a:cubicBezTo>
                  <a:pt x="6722" y="6631"/>
                  <a:pt x="6722" y="6640"/>
                  <a:pt x="6722" y="664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0040" y="223200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8136" y="6201"/>
                </a:moveTo>
                <a:cubicBezTo>
                  <a:pt x="8082" y="6224"/>
                  <a:pt x="7977" y="6200"/>
                  <a:pt x="7938" y="6251"/>
                </a:cubicBezTo>
                <a:cubicBezTo>
                  <a:pt x="7894" y="6308"/>
                  <a:pt x="7895" y="6382"/>
                  <a:pt x="7888" y="6449"/>
                </a:cubicBezTo>
                <a:cubicBezTo>
                  <a:pt x="7978" y="6449"/>
                  <a:pt x="8026" y="6375"/>
                  <a:pt x="8111" y="6375"/>
                </a:cubicBezTo>
                <a:cubicBezTo>
                  <a:pt x="8217" y="6375"/>
                  <a:pt x="8196" y="6537"/>
                  <a:pt x="8161" y="6598"/>
                </a:cubicBezTo>
                <a:cubicBezTo>
                  <a:pt x="8115" y="6679"/>
                  <a:pt x="8017" y="6672"/>
                  <a:pt x="7938" y="667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37000" y="2178000"/>
            <a:ext cx="579240" cy="189000"/>
          </a:xfrm>
          <a:custGeom>
            <a:avLst/>
            <a:gdLst/>
            <a:ahLst/>
            <a:rect l="l" t="t" r="r" b="b"/>
            <a:pathLst>
              <a:path w="1613" h="522">
                <a:moveTo>
                  <a:pt x="9872" y="6152"/>
                </a:moveTo>
                <a:cubicBezTo>
                  <a:pt x="9971" y="6086"/>
                  <a:pt x="10189" y="6009"/>
                  <a:pt x="10195" y="6127"/>
                </a:cubicBezTo>
                <a:cubicBezTo>
                  <a:pt x="10199" y="6200"/>
                  <a:pt x="10069" y="6249"/>
                  <a:pt x="10021" y="6276"/>
                </a:cubicBezTo>
                <a:cubicBezTo>
                  <a:pt x="10090" y="6295"/>
                  <a:pt x="10291" y="6384"/>
                  <a:pt x="10170" y="6499"/>
                </a:cubicBezTo>
                <a:cubicBezTo>
                  <a:pt x="10081" y="6584"/>
                  <a:pt x="9886" y="6562"/>
                  <a:pt x="9823" y="6499"/>
                </a:cubicBezTo>
              </a:path>
              <a:path w="1613" h="522">
                <a:moveTo>
                  <a:pt x="11212" y="6102"/>
                </a:moveTo>
                <a:cubicBezTo>
                  <a:pt x="11187" y="6026"/>
                  <a:pt x="11108" y="6138"/>
                  <a:pt x="11088" y="6176"/>
                </a:cubicBezTo>
                <a:cubicBezTo>
                  <a:pt x="11041" y="6267"/>
                  <a:pt x="11025" y="6432"/>
                  <a:pt x="11137" y="6474"/>
                </a:cubicBezTo>
                <a:cubicBezTo>
                  <a:pt x="11234" y="6511"/>
                  <a:pt x="11400" y="6417"/>
                  <a:pt x="11435" y="6325"/>
                </a:cubicBezTo>
                <a:cubicBezTo>
                  <a:pt x="11461" y="6256"/>
                  <a:pt x="11402" y="6130"/>
                  <a:pt x="11361" y="6102"/>
                </a:cubicBezTo>
                <a:cubicBezTo>
                  <a:pt x="11272" y="6041"/>
                  <a:pt x="11269" y="6047"/>
                  <a:pt x="11187" y="6102"/>
                </a:cubicBezTo>
              </a:path>
              <a:path w="1613" h="522">
                <a:moveTo>
                  <a:pt x="10691" y="6152"/>
                </a:moveTo>
                <a:cubicBezTo>
                  <a:pt x="10620" y="6152"/>
                  <a:pt x="10638" y="6145"/>
                  <a:pt x="10592" y="6201"/>
                </a:cubicBezTo>
                <a:cubicBezTo>
                  <a:pt x="10551" y="6251"/>
                  <a:pt x="10516" y="6313"/>
                  <a:pt x="10492" y="6375"/>
                </a:cubicBezTo>
                <a:cubicBezTo>
                  <a:pt x="10469" y="6435"/>
                  <a:pt x="10450" y="6477"/>
                  <a:pt x="10492" y="6524"/>
                </a:cubicBezTo>
                <a:cubicBezTo>
                  <a:pt x="10525" y="6561"/>
                  <a:pt x="10590" y="6586"/>
                  <a:pt x="10641" y="6573"/>
                </a:cubicBezTo>
                <a:cubicBezTo>
                  <a:pt x="10759" y="6542"/>
                  <a:pt x="10753" y="6513"/>
                  <a:pt x="10815" y="6424"/>
                </a:cubicBezTo>
                <a:cubicBezTo>
                  <a:pt x="10848" y="6377"/>
                  <a:pt x="10840" y="6336"/>
                  <a:pt x="10840" y="6276"/>
                </a:cubicBezTo>
                <a:cubicBezTo>
                  <a:pt x="10840" y="6228"/>
                  <a:pt x="10789" y="6197"/>
                  <a:pt x="10765" y="6176"/>
                </a:cubicBezTo>
                <a:cubicBezTo>
                  <a:pt x="10721" y="6132"/>
                  <a:pt x="10711" y="6115"/>
                  <a:pt x="10666" y="612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32040" y="3214800"/>
            <a:ext cx="920880" cy="214200"/>
          </a:xfrm>
          <a:custGeom>
            <a:avLst/>
            <a:gdLst/>
            <a:ahLst/>
            <a:rect l="l" t="t" r="r" b="b"/>
            <a:pathLst>
              <a:path w="2556" h="596">
                <a:moveTo>
                  <a:pt x="7590" y="9128"/>
                </a:moveTo>
                <a:lnTo>
                  <a:pt x="7590" y="9128"/>
                </a:lnTo>
              </a:path>
              <a:path w="2556" h="596">
                <a:moveTo>
                  <a:pt x="7615" y="9525"/>
                </a:moveTo>
                <a:lnTo>
                  <a:pt x="7615" y="9525"/>
                </a:lnTo>
              </a:path>
              <a:path w="2556" h="596">
                <a:moveTo>
                  <a:pt x="7615" y="9525"/>
                </a:moveTo>
                <a:lnTo>
                  <a:pt x="7615" y="9525"/>
                </a:lnTo>
              </a:path>
              <a:path w="2556" h="596">
                <a:moveTo>
                  <a:pt x="9674" y="8979"/>
                </a:moveTo>
                <a:cubicBezTo>
                  <a:pt x="9783" y="8965"/>
                  <a:pt x="9894" y="8957"/>
                  <a:pt x="9996" y="8930"/>
                </a:cubicBezTo>
              </a:path>
              <a:path w="2556" h="596">
                <a:moveTo>
                  <a:pt x="9773" y="9079"/>
                </a:moveTo>
                <a:cubicBezTo>
                  <a:pt x="9946" y="9050"/>
                  <a:pt x="10020" y="9039"/>
                  <a:pt x="10145" y="902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6040" y="3303720"/>
            <a:ext cx="581040" cy="214200"/>
          </a:xfrm>
          <a:custGeom>
            <a:avLst/>
            <a:gdLst/>
            <a:ahLst/>
            <a:rect l="l" t="t" r="r" b="b"/>
            <a:pathLst>
              <a:path w="1613" h="596">
                <a:moveTo>
                  <a:pt x="4514" y="9302"/>
                </a:moveTo>
                <a:cubicBezTo>
                  <a:pt x="4605" y="9291"/>
                  <a:pt x="4846" y="9212"/>
                  <a:pt x="4911" y="9327"/>
                </a:cubicBezTo>
                <a:cubicBezTo>
                  <a:pt x="5017" y="9515"/>
                  <a:pt x="4878" y="9835"/>
                  <a:pt x="4638" y="9773"/>
                </a:cubicBezTo>
                <a:cubicBezTo>
                  <a:pt x="4605" y="9748"/>
                  <a:pt x="4572" y="9724"/>
                  <a:pt x="4539" y="9699"/>
                </a:cubicBezTo>
                <a:cubicBezTo>
                  <a:pt x="4461" y="9580"/>
                  <a:pt x="4725" y="9626"/>
                  <a:pt x="4837" y="9624"/>
                </a:cubicBezTo>
                <a:cubicBezTo>
                  <a:pt x="4966" y="9624"/>
                  <a:pt x="5011" y="9620"/>
                  <a:pt x="5060" y="9525"/>
                </a:cubicBezTo>
              </a:path>
              <a:path w="1613" h="596">
                <a:moveTo>
                  <a:pt x="5011" y="9302"/>
                </a:moveTo>
                <a:cubicBezTo>
                  <a:pt x="5152" y="9284"/>
                  <a:pt x="5304" y="9223"/>
                  <a:pt x="5432" y="9252"/>
                </a:cubicBezTo>
                <a:cubicBezTo>
                  <a:pt x="5469" y="9387"/>
                  <a:pt x="5420" y="9541"/>
                  <a:pt x="5457" y="9674"/>
                </a:cubicBezTo>
                <a:cubicBezTo>
                  <a:pt x="5532" y="9674"/>
                  <a:pt x="5576" y="9639"/>
                  <a:pt x="5606" y="9550"/>
                </a:cubicBezTo>
              </a:path>
              <a:path w="1613" h="596">
                <a:moveTo>
                  <a:pt x="5904" y="9178"/>
                </a:moveTo>
                <a:cubicBezTo>
                  <a:pt x="5750" y="9344"/>
                  <a:pt x="5723" y="9458"/>
                  <a:pt x="5779" y="9674"/>
                </a:cubicBezTo>
                <a:cubicBezTo>
                  <a:pt x="5958" y="9640"/>
                  <a:pt x="6201" y="9564"/>
                  <a:pt x="6052" y="9327"/>
                </a:cubicBezTo>
                <a:cubicBezTo>
                  <a:pt x="5975" y="9249"/>
                  <a:pt x="5972" y="9215"/>
                  <a:pt x="5904" y="922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60760" y="3348000"/>
            <a:ext cx="125280" cy="19080"/>
          </a:xfrm>
          <a:custGeom>
            <a:avLst/>
            <a:gdLst/>
            <a:ahLst/>
            <a:rect l="l" t="t" r="r" b="b"/>
            <a:pathLst>
              <a:path w="348" h="50">
                <a:moveTo>
                  <a:pt x="7392" y="9351"/>
                </a:moveTo>
                <a:cubicBezTo>
                  <a:pt x="7500" y="9336"/>
                  <a:pt x="7604" y="9308"/>
                  <a:pt x="7714" y="9302"/>
                </a:cubicBezTo>
                <a:cubicBezTo>
                  <a:pt x="7722" y="9302"/>
                  <a:pt x="7731" y="9302"/>
                  <a:pt x="7739" y="930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06800" y="3197160"/>
            <a:ext cx="135000" cy="2142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8954" y="9004"/>
                </a:moveTo>
                <a:cubicBezTo>
                  <a:pt x="8954" y="8921"/>
                  <a:pt x="8936" y="8880"/>
                  <a:pt x="8830" y="8880"/>
                </a:cubicBezTo>
                <a:cubicBezTo>
                  <a:pt x="8700" y="8880"/>
                  <a:pt x="8538" y="9100"/>
                  <a:pt x="8706" y="9178"/>
                </a:cubicBezTo>
                <a:cubicBezTo>
                  <a:pt x="8852" y="9246"/>
                  <a:pt x="8924" y="9088"/>
                  <a:pt x="8979" y="9004"/>
                </a:cubicBezTo>
                <a:cubicBezTo>
                  <a:pt x="8987" y="8996"/>
                  <a:pt x="8996" y="8987"/>
                  <a:pt x="9004" y="8979"/>
                </a:cubicBezTo>
                <a:cubicBezTo>
                  <a:pt x="8977" y="9116"/>
                  <a:pt x="8979" y="9257"/>
                  <a:pt x="8979" y="9401"/>
                </a:cubicBezTo>
                <a:cubicBezTo>
                  <a:pt x="8979" y="9469"/>
                  <a:pt x="8982" y="9499"/>
                  <a:pt x="8954" y="942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4760" y="3116160"/>
            <a:ext cx="393480" cy="179640"/>
          </a:xfrm>
          <a:custGeom>
            <a:avLst/>
            <a:gdLst/>
            <a:ahLst/>
            <a:rect l="l" t="t" r="r" b="b"/>
            <a:pathLst>
              <a:path w="1092" h="497">
                <a:moveTo>
                  <a:pt x="10790" y="8781"/>
                </a:moveTo>
                <a:cubicBezTo>
                  <a:pt x="10881" y="8761"/>
                  <a:pt x="11068" y="8671"/>
                  <a:pt x="11162" y="8756"/>
                </a:cubicBezTo>
                <a:cubicBezTo>
                  <a:pt x="11186" y="8778"/>
                  <a:pt x="11006" y="8871"/>
                  <a:pt x="10988" y="8880"/>
                </a:cubicBezTo>
                <a:cubicBezTo>
                  <a:pt x="11096" y="8880"/>
                  <a:pt x="11143" y="8889"/>
                  <a:pt x="11237" y="8930"/>
                </a:cubicBezTo>
                <a:cubicBezTo>
                  <a:pt x="11198" y="9123"/>
                  <a:pt x="11078" y="9175"/>
                  <a:pt x="10864" y="9153"/>
                </a:cubicBezTo>
                <a:cubicBezTo>
                  <a:pt x="10856" y="9145"/>
                  <a:pt x="10848" y="9136"/>
                  <a:pt x="10840" y="9128"/>
                </a:cubicBezTo>
              </a:path>
              <a:path w="1092" h="497">
                <a:moveTo>
                  <a:pt x="11609" y="8657"/>
                </a:moveTo>
                <a:cubicBezTo>
                  <a:pt x="11456" y="8798"/>
                  <a:pt x="11408" y="8894"/>
                  <a:pt x="11385" y="9103"/>
                </a:cubicBezTo>
                <a:cubicBezTo>
                  <a:pt x="11611" y="9154"/>
                  <a:pt x="11713" y="9073"/>
                  <a:pt x="11881" y="8905"/>
                </a:cubicBezTo>
                <a:cubicBezTo>
                  <a:pt x="11782" y="8800"/>
                  <a:pt x="11756" y="8768"/>
                  <a:pt x="11633" y="870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25840" y="4572000"/>
            <a:ext cx="1679400" cy="142920"/>
          </a:xfrm>
          <a:custGeom>
            <a:avLst/>
            <a:gdLst/>
            <a:ahLst/>
            <a:rect l="l" t="t" r="r" b="b"/>
            <a:pathLst>
              <a:path w="4664" h="398">
                <a:moveTo>
                  <a:pt x="7417" y="12774"/>
                </a:moveTo>
                <a:cubicBezTo>
                  <a:pt x="7384" y="12819"/>
                  <a:pt x="7187" y="13097"/>
                  <a:pt x="7367" y="13097"/>
                </a:cubicBezTo>
                <a:cubicBezTo>
                  <a:pt x="7548" y="13097"/>
                  <a:pt x="7628" y="12959"/>
                  <a:pt x="7541" y="12824"/>
                </a:cubicBezTo>
                <a:cubicBezTo>
                  <a:pt x="7533" y="12816"/>
                  <a:pt x="7524" y="12807"/>
                  <a:pt x="7516" y="12799"/>
                </a:cubicBezTo>
              </a:path>
              <a:path w="4664" h="398">
                <a:moveTo>
                  <a:pt x="8607" y="12700"/>
                </a:moveTo>
                <a:cubicBezTo>
                  <a:pt x="8712" y="12763"/>
                  <a:pt x="8787" y="12822"/>
                  <a:pt x="8855" y="12923"/>
                </a:cubicBezTo>
              </a:path>
              <a:path w="4664" h="398">
                <a:moveTo>
                  <a:pt x="11658" y="12874"/>
                </a:moveTo>
                <a:cubicBezTo>
                  <a:pt x="11806" y="12849"/>
                  <a:pt x="11855" y="12841"/>
                  <a:pt x="11956" y="12849"/>
                </a:cubicBezTo>
              </a:path>
              <a:path w="4664" h="398">
                <a:moveTo>
                  <a:pt x="11956" y="12849"/>
                </a:moveTo>
                <a:lnTo>
                  <a:pt x="11956" y="12849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55920" y="4562640"/>
            <a:ext cx="115920" cy="16956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6846" y="12725"/>
                </a:moveTo>
                <a:cubicBezTo>
                  <a:pt x="6889" y="12709"/>
                  <a:pt x="7111" y="12613"/>
                  <a:pt x="7069" y="12725"/>
                </a:cubicBezTo>
                <a:cubicBezTo>
                  <a:pt x="7013" y="12809"/>
                  <a:pt x="6988" y="12841"/>
                  <a:pt x="6921" y="12874"/>
                </a:cubicBezTo>
                <a:cubicBezTo>
                  <a:pt x="6913" y="12882"/>
                  <a:pt x="6904" y="12890"/>
                  <a:pt x="6896" y="12898"/>
                </a:cubicBezTo>
                <a:cubicBezTo>
                  <a:pt x="7015" y="12898"/>
                  <a:pt x="7066" y="12895"/>
                  <a:pt x="7144" y="12973"/>
                </a:cubicBezTo>
                <a:cubicBezTo>
                  <a:pt x="7126" y="12992"/>
                  <a:pt x="6821" y="13215"/>
                  <a:pt x="6821" y="13146"/>
                </a:cubicBezTo>
                <a:cubicBezTo>
                  <a:pt x="6838" y="13130"/>
                  <a:pt x="6854" y="13113"/>
                  <a:pt x="6871" y="1309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71880" y="453708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8806" y="12601"/>
                </a:moveTo>
                <a:cubicBezTo>
                  <a:pt x="8743" y="12663"/>
                  <a:pt x="8526" y="12910"/>
                  <a:pt x="8533" y="12998"/>
                </a:cubicBezTo>
                <a:cubicBezTo>
                  <a:pt x="8549" y="12998"/>
                  <a:pt x="8566" y="12998"/>
                  <a:pt x="8582" y="1299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4518000"/>
            <a:ext cx="420840" cy="179280"/>
          </a:xfrm>
          <a:custGeom>
            <a:avLst/>
            <a:gdLst/>
            <a:ahLst/>
            <a:rect l="l" t="t" r="r" b="b"/>
            <a:pathLst>
              <a:path w="1167" h="497">
                <a:moveTo>
                  <a:pt x="9575" y="12650"/>
                </a:moveTo>
                <a:cubicBezTo>
                  <a:pt x="9538" y="12750"/>
                  <a:pt x="9480" y="12916"/>
                  <a:pt x="9525" y="13022"/>
                </a:cubicBezTo>
                <a:cubicBezTo>
                  <a:pt x="9533" y="13022"/>
                  <a:pt x="9542" y="13022"/>
                  <a:pt x="9550" y="13022"/>
                </a:cubicBezTo>
              </a:path>
              <a:path w="1167" h="497">
                <a:moveTo>
                  <a:pt x="10120" y="12551"/>
                </a:moveTo>
                <a:cubicBezTo>
                  <a:pt x="10053" y="12575"/>
                  <a:pt x="9856" y="12595"/>
                  <a:pt x="9847" y="12675"/>
                </a:cubicBezTo>
                <a:cubicBezTo>
                  <a:pt x="9843" y="12707"/>
                  <a:pt x="9830" y="12720"/>
                  <a:pt x="9823" y="12750"/>
                </a:cubicBezTo>
                <a:cubicBezTo>
                  <a:pt x="9914" y="12750"/>
                  <a:pt x="10005" y="12750"/>
                  <a:pt x="10096" y="12750"/>
                </a:cubicBezTo>
                <a:cubicBezTo>
                  <a:pt x="10096" y="12844"/>
                  <a:pt x="10110" y="13025"/>
                  <a:pt x="9971" y="13047"/>
                </a:cubicBezTo>
                <a:cubicBezTo>
                  <a:pt x="9856" y="13065"/>
                  <a:pt x="9823" y="13007"/>
                  <a:pt x="9823" y="12948"/>
                </a:cubicBezTo>
              </a:path>
              <a:path w="1167" h="497">
                <a:moveTo>
                  <a:pt x="10616" y="12650"/>
                </a:moveTo>
                <a:cubicBezTo>
                  <a:pt x="10506" y="12687"/>
                  <a:pt x="10432" y="12785"/>
                  <a:pt x="10393" y="12898"/>
                </a:cubicBezTo>
                <a:cubicBezTo>
                  <a:pt x="10333" y="13071"/>
                  <a:pt x="10620" y="12949"/>
                  <a:pt x="10666" y="12874"/>
                </a:cubicBezTo>
                <a:cubicBezTo>
                  <a:pt x="10730" y="12770"/>
                  <a:pt x="10646" y="12732"/>
                  <a:pt x="10567" y="1270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60880" y="4589640"/>
            <a:ext cx="9828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1559" y="12750"/>
                </a:moveTo>
                <a:cubicBezTo>
                  <a:pt x="11658" y="12750"/>
                  <a:pt x="11807" y="12750"/>
                  <a:pt x="11807" y="1275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62640" y="4527720"/>
            <a:ext cx="777600" cy="258480"/>
          </a:xfrm>
          <a:custGeom>
            <a:avLst/>
            <a:gdLst/>
            <a:ahLst/>
            <a:rect l="l" t="t" r="r" b="b"/>
            <a:pathLst>
              <a:path w="2159" h="720">
                <a:moveTo>
                  <a:pt x="12700" y="12700"/>
                </a:moveTo>
                <a:cubicBezTo>
                  <a:pt x="12700" y="12767"/>
                  <a:pt x="12696" y="12801"/>
                  <a:pt x="12675" y="12849"/>
                </a:cubicBezTo>
                <a:cubicBezTo>
                  <a:pt x="12888" y="12901"/>
                  <a:pt x="12920" y="12896"/>
                  <a:pt x="13097" y="12774"/>
                </a:cubicBezTo>
              </a:path>
              <a:path w="2159" h="720">
                <a:moveTo>
                  <a:pt x="13047" y="12576"/>
                </a:moveTo>
                <a:cubicBezTo>
                  <a:pt x="13037" y="12742"/>
                  <a:pt x="12975" y="12931"/>
                  <a:pt x="12998" y="13097"/>
                </a:cubicBezTo>
                <a:cubicBezTo>
                  <a:pt x="13006" y="13113"/>
                  <a:pt x="13014" y="13130"/>
                  <a:pt x="13022" y="13146"/>
                </a:cubicBezTo>
              </a:path>
              <a:path w="2159" h="720">
                <a:moveTo>
                  <a:pt x="13171" y="13022"/>
                </a:moveTo>
                <a:cubicBezTo>
                  <a:pt x="13189" y="13111"/>
                  <a:pt x="13168" y="13287"/>
                  <a:pt x="13221" y="13271"/>
                </a:cubicBezTo>
              </a:path>
              <a:path w="2159" h="720">
                <a:moveTo>
                  <a:pt x="13667" y="12626"/>
                </a:moveTo>
                <a:cubicBezTo>
                  <a:pt x="13615" y="12645"/>
                  <a:pt x="13559" y="12639"/>
                  <a:pt x="13543" y="12675"/>
                </a:cubicBezTo>
                <a:cubicBezTo>
                  <a:pt x="13521" y="12724"/>
                  <a:pt x="13487" y="12755"/>
                  <a:pt x="13469" y="12799"/>
                </a:cubicBezTo>
                <a:cubicBezTo>
                  <a:pt x="13550" y="12799"/>
                  <a:pt x="13727" y="12771"/>
                  <a:pt x="13742" y="12898"/>
                </a:cubicBezTo>
                <a:cubicBezTo>
                  <a:pt x="13761" y="13061"/>
                  <a:pt x="13619" y="13104"/>
                  <a:pt x="13494" y="13122"/>
                </a:cubicBezTo>
              </a:path>
              <a:path w="2159" h="720">
                <a:moveTo>
                  <a:pt x="14089" y="12774"/>
                </a:moveTo>
                <a:cubicBezTo>
                  <a:pt x="13931" y="12809"/>
                  <a:pt x="13917" y="12899"/>
                  <a:pt x="13891" y="13047"/>
                </a:cubicBezTo>
                <a:cubicBezTo>
                  <a:pt x="13946" y="13053"/>
                  <a:pt x="14348" y="13072"/>
                  <a:pt x="14263" y="12898"/>
                </a:cubicBezTo>
                <a:cubicBezTo>
                  <a:pt x="14182" y="12838"/>
                  <a:pt x="14169" y="12824"/>
                  <a:pt x="14114" y="12799"/>
                </a:cubicBezTo>
              </a:path>
              <a:path w="2159" h="720">
                <a:moveTo>
                  <a:pt x="14660" y="12700"/>
                </a:moveTo>
                <a:cubicBezTo>
                  <a:pt x="14568" y="12730"/>
                  <a:pt x="14383" y="12890"/>
                  <a:pt x="14436" y="13022"/>
                </a:cubicBezTo>
                <a:cubicBezTo>
                  <a:pt x="14516" y="13221"/>
                  <a:pt x="14857" y="13047"/>
                  <a:pt x="14833" y="12874"/>
                </a:cubicBezTo>
                <a:cubicBezTo>
                  <a:pt x="14755" y="12822"/>
                  <a:pt x="14727" y="12804"/>
                  <a:pt x="14660" y="1279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67360" y="4554360"/>
            <a:ext cx="473400" cy="295560"/>
          </a:xfrm>
          <a:custGeom>
            <a:avLst/>
            <a:gdLst/>
            <a:ahLst/>
            <a:rect l="l" t="t" r="r" b="b"/>
            <a:pathLst>
              <a:path w="1315" h="820">
                <a:moveTo>
                  <a:pt x="19075" y="12898"/>
                </a:moveTo>
                <a:cubicBezTo>
                  <a:pt x="19075" y="12964"/>
                  <a:pt x="19079" y="13162"/>
                  <a:pt x="19224" y="13072"/>
                </a:cubicBezTo>
                <a:cubicBezTo>
                  <a:pt x="19300" y="12970"/>
                  <a:pt x="19326" y="12934"/>
                  <a:pt x="19348" y="12849"/>
                </a:cubicBezTo>
                <a:cubicBezTo>
                  <a:pt x="19340" y="12824"/>
                  <a:pt x="19331" y="12799"/>
                  <a:pt x="19323" y="12774"/>
                </a:cubicBezTo>
                <a:cubicBezTo>
                  <a:pt x="19323" y="12811"/>
                  <a:pt x="19397" y="13150"/>
                  <a:pt x="19397" y="13271"/>
                </a:cubicBezTo>
                <a:cubicBezTo>
                  <a:pt x="19397" y="13409"/>
                  <a:pt x="19244" y="13581"/>
                  <a:pt x="19224" y="13395"/>
                </a:cubicBezTo>
              </a:path>
              <a:path w="1315" h="820">
                <a:moveTo>
                  <a:pt x="19546" y="12923"/>
                </a:moveTo>
                <a:cubicBezTo>
                  <a:pt x="19680" y="12879"/>
                  <a:pt x="19716" y="12869"/>
                  <a:pt x="19794" y="12824"/>
                </a:cubicBezTo>
                <a:cubicBezTo>
                  <a:pt x="19724" y="12753"/>
                  <a:pt x="19598" y="12841"/>
                  <a:pt x="19571" y="12948"/>
                </a:cubicBezTo>
                <a:cubicBezTo>
                  <a:pt x="19571" y="13073"/>
                  <a:pt x="19572" y="13114"/>
                  <a:pt x="19695" y="13097"/>
                </a:cubicBezTo>
              </a:path>
              <a:path w="1315" h="820">
                <a:moveTo>
                  <a:pt x="20166" y="12650"/>
                </a:moveTo>
                <a:cubicBezTo>
                  <a:pt x="20133" y="12658"/>
                  <a:pt x="20100" y="12667"/>
                  <a:pt x="20067" y="12675"/>
                </a:cubicBezTo>
                <a:cubicBezTo>
                  <a:pt x="20113" y="12722"/>
                  <a:pt x="20401" y="12772"/>
                  <a:pt x="20389" y="12874"/>
                </a:cubicBezTo>
                <a:cubicBezTo>
                  <a:pt x="20381" y="12947"/>
                  <a:pt x="20084" y="13170"/>
                  <a:pt x="20166" y="1289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84720" y="5759280"/>
            <a:ext cx="669600" cy="214560"/>
          </a:xfrm>
          <a:custGeom>
            <a:avLst/>
            <a:gdLst/>
            <a:ahLst/>
            <a:rect l="l" t="t" r="r" b="b"/>
            <a:pathLst>
              <a:path w="1861" h="596">
                <a:moveTo>
                  <a:pt x="9401" y="15999"/>
                </a:moveTo>
                <a:lnTo>
                  <a:pt x="9401" y="15999"/>
                </a:lnTo>
              </a:path>
              <a:path w="1861" h="596">
                <a:moveTo>
                  <a:pt x="9475" y="16594"/>
                </a:moveTo>
                <a:lnTo>
                  <a:pt x="9475" y="16594"/>
                </a:lnTo>
              </a:path>
              <a:path w="1861" h="596">
                <a:moveTo>
                  <a:pt x="10716" y="16321"/>
                </a:moveTo>
                <a:cubicBezTo>
                  <a:pt x="10835" y="16282"/>
                  <a:pt x="10973" y="16251"/>
                  <a:pt x="11063" y="16297"/>
                </a:cubicBezTo>
              </a:path>
              <a:path w="1861" h="596">
                <a:moveTo>
                  <a:pt x="10864" y="16495"/>
                </a:moveTo>
                <a:cubicBezTo>
                  <a:pt x="11055" y="16468"/>
                  <a:pt x="11130" y="16455"/>
                  <a:pt x="11261" y="16421"/>
                </a:cubicBezTo>
              </a:path>
              <a:path w="1861" h="596">
                <a:moveTo>
                  <a:pt x="11261" y="16421"/>
                </a:moveTo>
                <a:lnTo>
                  <a:pt x="11261" y="16421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24120" y="5803920"/>
            <a:ext cx="320760" cy="23328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7789" y="16123"/>
                </a:moveTo>
                <a:cubicBezTo>
                  <a:pt x="7615" y="16215"/>
                  <a:pt x="7475" y="16269"/>
                  <a:pt x="7689" y="16421"/>
                </a:cubicBezTo>
                <a:cubicBezTo>
                  <a:pt x="7807" y="16492"/>
                  <a:pt x="7844" y="16511"/>
                  <a:pt x="7888" y="16594"/>
                </a:cubicBezTo>
                <a:cubicBezTo>
                  <a:pt x="7787" y="16704"/>
                  <a:pt x="7735" y="16725"/>
                  <a:pt x="7590" y="16768"/>
                </a:cubicBezTo>
                <a:cubicBezTo>
                  <a:pt x="7616" y="16534"/>
                  <a:pt x="7786" y="16458"/>
                  <a:pt x="7938" y="16272"/>
                </a:cubicBezTo>
                <a:cubicBezTo>
                  <a:pt x="7896" y="16272"/>
                  <a:pt x="7871" y="16272"/>
                  <a:pt x="7838" y="16272"/>
                </a:cubicBezTo>
              </a:path>
              <a:path w="894" h="646">
                <a:moveTo>
                  <a:pt x="8334" y="16247"/>
                </a:moveTo>
                <a:cubicBezTo>
                  <a:pt x="8127" y="16374"/>
                  <a:pt x="8112" y="16449"/>
                  <a:pt x="8136" y="16694"/>
                </a:cubicBezTo>
                <a:cubicBezTo>
                  <a:pt x="8258" y="16701"/>
                  <a:pt x="8575" y="16642"/>
                  <a:pt x="8458" y="16421"/>
                </a:cubicBezTo>
                <a:cubicBezTo>
                  <a:pt x="8362" y="16372"/>
                  <a:pt x="8331" y="16356"/>
                  <a:pt x="8260" y="1634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57720" y="5813280"/>
            <a:ext cx="330120" cy="187560"/>
          </a:xfrm>
          <a:custGeom>
            <a:avLst/>
            <a:gdLst/>
            <a:ahLst/>
            <a:rect l="l" t="t" r="r" b="b"/>
            <a:pathLst>
              <a:path w="918" h="522">
                <a:moveTo>
                  <a:pt x="9327" y="16321"/>
                </a:moveTo>
                <a:cubicBezTo>
                  <a:pt x="9450" y="16321"/>
                  <a:pt x="9666" y="16345"/>
                  <a:pt x="9748" y="16297"/>
                </a:cubicBezTo>
              </a:path>
              <a:path w="918" h="522">
                <a:moveTo>
                  <a:pt x="9475" y="16520"/>
                </a:moveTo>
                <a:cubicBezTo>
                  <a:pt x="9475" y="16561"/>
                  <a:pt x="9475" y="16569"/>
                  <a:pt x="9475" y="16594"/>
                </a:cubicBezTo>
              </a:path>
              <a:path w="918" h="522">
                <a:moveTo>
                  <a:pt x="10170" y="16148"/>
                </a:moveTo>
                <a:cubicBezTo>
                  <a:pt x="10057" y="16148"/>
                  <a:pt x="10026" y="16142"/>
                  <a:pt x="9971" y="16197"/>
                </a:cubicBezTo>
                <a:cubicBezTo>
                  <a:pt x="9956" y="16404"/>
                  <a:pt x="10096" y="16383"/>
                  <a:pt x="10195" y="16545"/>
                </a:cubicBezTo>
                <a:cubicBezTo>
                  <a:pt x="10255" y="16643"/>
                  <a:pt x="9999" y="16662"/>
                  <a:pt x="9971" y="16669"/>
                </a:cubicBezTo>
                <a:cubicBezTo>
                  <a:pt x="9939" y="16450"/>
                  <a:pt x="10154" y="16507"/>
                  <a:pt x="10244" y="16321"/>
                </a:cubicBezTo>
                <a:cubicBezTo>
                  <a:pt x="10280" y="16247"/>
                  <a:pt x="10121" y="16272"/>
                  <a:pt x="10096" y="1627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79960" y="5813280"/>
            <a:ext cx="249120" cy="196920"/>
          </a:xfrm>
          <a:custGeom>
            <a:avLst/>
            <a:gdLst/>
            <a:ahLst/>
            <a:rect l="l" t="t" r="r" b="b"/>
            <a:pathLst>
              <a:path w="695" h="547">
                <a:moveTo>
                  <a:pt x="11609" y="16148"/>
                </a:moveTo>
                <a:cubicBezTo>
                  <a:pt x="11630" y="16237"/>
                  <a:pt x="11628" y="16598"/>
                  <a:pt x="11708" y="16644"/>
                </a:cubicBezTo>
                <a:cubicBezTo>
                  <a:pt x="11724" y="16636"/>
                  <a:pt x="11741" y="16627"/>
                  <a:pt x="11757" y="16619"/>
                </a:cubicBezTo>
              </a:path>
              <a:path w="695" h="547">
                <a:moveTo>
                  <a:pt x="12105" y="16197"/>
                </a:moveTo>
                <a:cubicBezTo>
                  <a:pt x="11887" y="16306"/>
                  <a:pt x="11857" y="16386"/>
                  <a:pt x="11857" y="16619"/>
                </a:cubicBezTo>
                <a:cubicBezTo>
                  <a:pt x="12020" y="16674"/>
                  <a:pt x="12330" y="16670"/>
                  <a:pt x="12303" y="16371"/>
                </a:cubicBezTo>
                <a:cubicBezTo>
                  <a:pt x="12289" y="16224"/>
                  <a:pt x="12053" y="16261"/>
                  <a:pt x="11956" y="1624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84840" y="5803920"/>
            <a:ext cx="428400" cy="189000"/>
          </a:xfrm>
          <a:custGeom>
            <a:avLst/>
            <a:gdLst/>
            <a:ahLst/>
            <a:rect l="l" t="t" r="r" b="b"/>
            <a:pathLst>
              <a:path w="1192" h="522">
                <a:moveTo>
                  <a:pt x="13568" y="16570"/>
                </a:moveTo>
                <a:cubicBezTo>
                  <a:pt x="13601" y="16685"/>
                  <a:pt x="13650" y="16653"/>
                  <a:pt x="13816" y="16644"/>
                </a:cubicBezTo>
                <a:cubicBezTo>
                  <a:pt x="14056" y="16631"/>
                  <a:pt x="14420" y="16613"/>
                  <a:pt x="14536" y="16371"/>
                </a:cubicBezTo>
                <a:cubicBezTo>
                  <a:pt x="14553" y="16335"/>
                  <a:pt x="14525" y="16272"/>
                  <a:pt x="14511" y="16247"/>
                </a:cubicBezTo>
                <a:cubicBezTo>
                  <a:pt x="14484" y="16200"/>
                  <a:pt x="14495" y="16107"/>
                  <a:pt x="14461" y="16148"/>
                </a:cubicBezTo>
                <a:cubicBezTo>
                  <a:pt x="14396" y="16256"/>
                  <a:pt x="14382" y="16282"/>
                  <a:pt x="14337" y="16346"/>
                </a:cubicBezTo>
                <a:cubicBezTo>
                  <a:pt x="14381" y="16302"/>
                  <a:pt x="14376" y="16284"/>
                  <a:pt x="14387" y="16222"/>
                </a:cubicBezTo>
                <a:cubicBezTo>
                  <a:pt x="14406" y="16113"/>
                  <a:pt x="14560" y="16126"/>
                  <a:pt x="14660" y="16123"/>
                </a:cubicBezTo>
                <a:cubicBezTo>
                  <a:pt x="14781" y="16119"/>
                  <a:pt x="14714" y="16125"/>
                  <a:pt x="14759" y="1614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00800" y="5848200"/>
            <a:ext cx="446040" cy="206640"/>
          </a:xfrm>
          <a:custGeom>
            <a:avLst/>
            <a:gdLst/>
            <a:ahLst/>
            <a:rect l="l" t="t" r="r" b="b"/>
            <a:pathLst>
              <a:path w="1241" h="572">
                <a:moveTo>
                  <a:pt x="15280" y="16470"/>
                </a:moveTo>
                <a:cubicBezTo>
                  <a:pt x="15358" y="16534"/>
                  <a:pt x="15420" y="16681"/>
                  <a:pt x="15453" y="16793"/>
                </a:cubicBezTo>
                <a:cubicBezTo>
                  <a:pt x="15453" y="16801"/>
                  <a:pt x="15453" y="16810"/>
                  <a:pt x="15453" y="16818"/>
                </a:cubicBezTo>
                <a:cubicBezTo>
                  <a:pt x="15428" y="16676"/>
                  <a:pt x="15318" y="16510"/>
                  <a:pt x="15429" y="16371"/>
                </a:cubicBezTo>
                <a:cubicBezTo>
                  <a:pt x="15592" y="16168"/>
                  <a:pt x="15772" y="16438"/>
                  <a:pt x="15825" y="16570"/>
                </a:cubicBezTo>
                <a:cubicBezTo>
                  <a:pt x="15871" y="16685"/>
                  <a:pt x="15809" y="16679"/>
                  <a:pt x="15900" y="16694"/>
                </a:cubicBezTo>
              </a:path>
              <a:path w="1241" h="572">
                <a:moveTo>
                  <a:pt x="16222" y="16247"/>
                </a:moveTo>
                <a:cubicBezTo>
                  <a:pt x="16117" y="16359"/>
                  <a:pt x="15894" y="16650"/>
                  <a:pt x="16173" y="16743"/>
                </a:cubicBezTo>
                <a:cubicBezTo>
                  <a:pt x="16423" y="16826"/>
                  <a:pt x="16610" y="16539"/>
                  <a:pt x="16446" y="16346"/>
                </a:cubicBezTo>
                <a:cubicBezTo>
                  <a:pt x="16365" y="16306"/>
                  <a:pt x="16352" y="16290"/>
                  <a:pt x="16297" y="1629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Estimate Decimal Products and Quotients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Using leading digit (front end) estimation means rounding to the largest valued non-zero place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.)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4.87 x 0.98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.)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4,319 ÷ 05.320  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517840" y="4000680"/>
            <a:ext cx="1251000" cy="1223640"/>
          </a:xfrm>
          <a:custGeom>
            <a:avLst/>
            <a:gdLst/>
            <a:ahLst/>
            <a:rect l="l" t="t" r="r" b="b"/>
            <a:pathLst>
              <a:path w="3474" h="3400">
                <a:moveTo>
                  <a:pt x="7317" y="11112"/>
                </a:moveTo>
                <a:cubicBezTo>
                  <a:pt x="7198" y="11267"/>
                  <a:pt x="7096" y="11428"/>
                  <a:pt x="7020" y="11609"/>
                </a:cubicBezTo>
                <a:cubicBezTo>
                  <a:pt x="7012" y="11634"/>
                  <a:pt x="7003" y="11658"/>
                  <a:pt x="6995" y="11683"/>
                </a:cubicBezTo>
              </a:path>
              <a:path w="3474" h="3400">
                <a:moveTo>
                  <a:pt x="10170" y="14263"/>
                </a:moveTo>
                <a:cubicBezTo>
                  <a:pt x="10288" y="14245"/>
                  <a:pt x="10355" y="14232"/>
                  <a:pt x="10468" y="14263"/>
                </a:cubicBezTo>
              </a:path>
              <a:path w="3474" h="3400">
                <a:moveTo>
                  <a:pt x="10096" y="14511"/>
                </a:moveTo>
                <a:cubicBezTo>
                  <a:pt x="10233" y="14456"/>
                  <a:pt x="10288" y="14437"/>
                  <a:pt x="10393" y="14436"/>
                </a:cubicBezTo>
              </a:path>
              <a:path w="3474" h="3400">
                <a:moveTo>
                  <a:pt x="10393" y="14436"/>
                </a:moveTo>
                <a:lnTo>
                  <a:pt x="10393" y="14436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33680" y="3402000"/>
            <a:ext cx="322200" cy="519120"/>
          </a:xfrm>
          <a:custGeom>
            <a:avLst/>
            <a:gdLst/>
            <a:ahLst/>
            <a:rect l="l" t="t" r="r" b="b"/>
            <a:pathLst>
              <a:path w="894" h="1439">
                <a:moveTo>
                  <a:pt x="4564" y="10864"/>
                </a:moveTo>
                <a:cubicBezTo>
                  <a:pt x="4693" y="10839"/>
                  <a:pt x="4826" y="10805"/>
                  <a:pt x="4961" y="10790"/>
                </a:cubicBezTo>
                <a:cubicBezTo>
                  <a:pt x="5050" y="10780"/>
                  <a:pt x="4900" y="10852"/>
                  <a:pt x="4812" y="10864"/>
                </a:cubicBezTo>
                <a:cubicBezTo>
                  <a:pt x="4671" y="10864"/>
                  <a:pt x="4628" y="10863"/>
                  <a:pt x="4539" y="10889"/>
                </a:cubicBezTo>
                <a:cubicBezTo>
                  <a:pt x="4712" y="10867"/>
                  <a:pt x="4886" y="10835"/>
                  <a:pt x="5060" y="10815"/>
                </a:cubicBezTo>
                <a:cubicBezTo>
                  <a:pt x="5107" y="10810"/>
                  <a:pt x="4850" y="10883"/>
                  <a:pt x="4812" y="10889"/>
                </a:cubicBezTo>
                <a:cubicBezTo>
                  <a:pt x="4783" y="10894"/>
                  <a:pt x="4744" y="10889"/>
                  <a:pt x="4713" y="10889"/>
                </a:cubicBezTo>
              </a:path>
              <a:path w="894" h="1439">
                <a:moveTo>
                  <a:pt x="4812" y="9624"/>
                </a:moveTo>
                <a:cubicBezTo>
                  <a:pt x="4866" y="9502"/>
                  <a:pt x="4985" y="9438"/>
                  <a:pt x="5135" y="9451"/>
                </a:cubicBezTo>
                <a:cubicBezTo>
                  <a:pt x="5196" y="9456"/>
                  <a:pt x="5280" y="9544"/>
                  <a:pt x="5308" y="9599"/>
                </a:cubicBezTo>
                <a:cubicBezTo>
                  <a:pt x="5329" y="9641"/>
                  <a:pt x="5308" y="9581"/>
                  <a:pt x="5308" y="9550"/>
                </a:cubicBezTo>
                <a:cubicBezTo>
                  <a:pt x="5308" y="9517"/>
                  <a:pt x="5308" y="9484"/>
                  <a:pt x="5308" y="9451"/>
                </a:cubicBezTo>
                <a:cubicBezTo>
                  <a:pt x="5340" y="9524"/>
                  <a:pt x="5406" y="9596"/>
                  <a:pt x="5432" y="9674"/>
                </a:cubicBezTo>
                <a:cubicBezTo>
                  <a:pt x="5366" y="9674"/>
                  <a:pt x="5290" y="9656"/>
                  <a:pt x="5234" y="9699"/>
                </a:cubicBezTo>
                <a:cubicBezTo>
                  <a:pt x="5242" y="9699"/>
                  <a:pt x="5251" y="9699"/>
                  <a:pt x="5259" y="969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85960" y="3990960"/>
            <a:ext cx="1044720" cy="474840"/>
          </a:xfrm>
          <a:custGeom>
            <a:avLst/>
            <a:gdLst/>
            <a:ahLst/>
            <a:rect l="l" t="t" r="r" b="b"/>
            <a:pathLst>
              <a:path w="2903" h="1315">
                <a:moveTo>
                  <a:pt x="5581" y="11162"/>
                </a:moveTo>
                <a:cubicBezTo>
                  <a:pt x="5581" y="11134"/>
                  <a:pt x="5581" y="11534"/>
                  <a:pt x="5581" y="11609"/>
                </a:cubicBezTo>
                <a:cubicBezTo>
                  <a:pt x="5581" y="11683"/>
                  <a:pt x="5558" y="11739"/>
                  <a:pt x="5606" y="11658"/>
                </a:cubicBezTo>
              </a:path>
              <a:path w="2903" h="1315">
                <a:moveTo>
                  <a:pt x="6052" y="11137"/>
                </a:moveTo>
                <a:cubicBezTo>
                  <a:pt x="5919" y="11241"/>
                  <a:pt x="5850" y="11380"/>
                  <a:pt x="5879" y="11559"/>
                </a:cubicBezTo>
                <a:cubicBezTo>
                  <a:pt x="5918" y="11799"/>
                  <a:pt x="6114" y="11700"/>
                  <a:pt x="6226" y="11584"/>
                </a:cubicBezTo>
                <a:cubicBezTo>
                  <a:pt x="6337" y="11469"/>
                  <a:pt x="6336" y="11285"/>
                  <a:pt x="6201" y="11187"/>
                </a:cubicBezTo>
                <a:cubicBezTo>
                  <a:pt x="6144" y="11168"/>
                  <a:pt x="6119" y="11177"/>
                  <a:pt x="6127" y="11137"/>
                </a:cubicBezTo>
              </a:path>
              <a:path w="2903" h="1315">
                <a:moveTo>
                  <a:pt x="6921" y="11212"/>
                </a:moveTo>
                <a:cubicBezTo>
                  <a:pt x="7028" y="11309"/>
                  <a:pt x="7106" y="11462"/>
                  <a:pt x="7218" y="11559"/>
                </a:cubicBezTo>
                <a:cubicBezTo>
                  <a:pt x="7246" y="11559"/>
                  <a:pt x="7257" y="11561"/>
                  <a:pt x="7268" y="11584"/>
                </a:cubicBezTo>
              </a:path>
              <a:path w="2903" h="1315">
                <a:moveTo>
                  <a:pt x="7764" y="11088"/>
                </a:moveTo>
                <a:cubicBezTo>
                  <a:pt x="7794" y="11256"/>
                  <a:pt x="7805" y="11435"/>
                  <a:pt x="7813" y="11609"/>
                </a:cubicBezTo>
                <a:cubicBezTo>
                  <a:pt x="7816" y="11665"/>
                  <a:pt x="7828" y="11650"/>
                  <a:pt x="7863" y="11633"/>
                </a:cubicBezTo>
              </a:path>
              <a:path w="2903" h="1315">
                <a:moveTo>
                  <a:pt x="4961" y="12378"/>
                </a:moveTo>
                <a:cubicBezTo>
                  <a:pt x="4982" y="12388"/>
                  <a:pt x="5139" y="12236"/>
                  <a:pt x="5209" y="12204"/>
                </a:cubicBezTo>
                <a:cubicBezTo>
                  <a:pt x="5350" y="12139"/>
                  <a:pt x="5548" y="12119"/>
                  <a:pt x="5680" y="12204"/>
                </a:cubicBezTo>
                <a:cubicBezTo>
                  <a:pt x="5711" y="12224"/>
                  <a:pt x="5722" y="12247"/>
                  <a:pt x="5730" y="12278"/>
                </a:cubicBezTo>
                <a:cubicBezTo>
                  <a:pt x="5730" y="12236"/>
                  <a:pt x="5701" y="12156"/>
                  <a:pt x="5705" y="12129"/>
                </a:cubicBezTo>
                <a:cubicBezTo>
                  <a:pt x="5728" y="12107"/>
                  <a:pt x="5736" y="12102"/>
                  <a:pt x="5730" y="12080"/>
                </a:cubicBezTo>
                <a:cubicBezTo>
                  <a:pt x="5730" y="12028"/>
                  <a:pt x="5752" y="12195"/>
                  <a:pt x="5755" y="12229"/>
                </a:cubicBezTo>
                <a:cubicBezTo>
                  <a:pt x="5759" y="12273"/>
                  <a:pt x="5630" y="12296"/>
                  <a:pt x="5606" y="1232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52880" y="3375000"/>
            <a:ext cx="714240" cy="1903320"/>
          </a:xfrm>
          <a:custGeom>
            <a:avLst/>
            <a:gdLst/>
            <a:ahLst/>
            <a:rect l="l" t="t" r="r" b="b"/>
            <a:pathLst>
              <a:path w="1985" h="5285">
                <a:moveTo>
                  <a:pt x="9624" y="10790"/>
                </a:moveTo>
                <a:cubicBezTo>
                  <a:pt x="9748" y="10776"/>
                  <a:pt x="9867" y="10765"/>
                  <a:pt x="9996" y="10765"/>
                </a:cubicBezTo>
                <a:cubicBezTo>
                  <a:pt x="10004" y="10765"/>
                  <a:pt x="10013" y="10765"/>
                  <a:pt x="10021" y="10765"/>
                </a:cubicBezTo>
                <a:cubicBezTo>
                  <a:pt x="9921" y="10779"/>
                  <a:pt x="9825" y="10809"/>
                  <a:pt x="9723" y="10815"/>
                </a:cubicBezTo>
                <a:cubicBezTo>
                  <a:pt x="9715" y="10815"/>
                  <a:pt x="9707" y="10815"/>
                  <a:pt x="9699" y="10815"/>
                </a:cubicBezTo>
                <a:cubicBezTo>
                  <a:pt x="9816" y="10803"/>
                  <a:pt x="9928" y="10771"/>
                  <a:pt x="10046" y="10765"/>
                </a:cubicBezTo>
                <a:cubicBezTo>
                  <a:pt x="10071" y="10765"/>
                  <a:pt x="10079" y="10765"/>
                  <a:pt x="10096" y="10765"/>
                </a:cubicBezTo>
              </a:path>
              <a:path w="1985" h="5285">
                <a:moveTo>
                  <a:pt x="9897" y="9624"/>
                </a:moveTo>
                <a:cubicBezTo>
                  <a:pt x="9913" y="9559"/>
                  <a:pt x="9986" y="9463"/>
                  <a:pt x="10046" y="9426"/>
                </a:cubicBezTo>
                <a:cubicBezTo>
                  <a:pt x="10166" y="9353"/>
                  <a:pt x="10317" y="9340"/>
                  <a:pt x="10393" y="9475"/>
                </a:cubicBezTo>
                <a:cubicBezTo>
                  <a:pt x="10428" y="9536"/>
                  <a:pt x="10430" y="9537"/>
                  <a:pt x="10443" y="9575"/>
                </a:cubicBezTo>
              </a:path>
              <a:path w="1985" h="5285">
                <a:moveTo>
                  <a:pt x="10517" y="9451"/>
                </a:moveTo>
                <a:cubicBezTo>
                  <a:pt x="10539" y="9517"/>
                  <a:pt x="10553" y="9582"/>
                  <a:pt x="10567" y="9649"/>
                </a:cubicBezTo>
                <a:cubicBezTo>
                  <a:pt x="10487" y="9649"/>
                  <a:pt x="10411" y="9648"/>
                  <a:pt x="10344" y="9674"/>
                </a:cubicBezTo>
              </a:path>
              <a:path w="1985" h="5285">
                <a:moveTo>
                  <a:pt x="8830" y="11187"/>
                </a:moveTo>
                <a:cubicBezTo>
                  <a:pt x="8917" y="11173"/>
                  <a:pt x="8989" y="11162"/>
                  <a:pt x="9079" y="11162"/>
                </a:cubicBezTo>
              </a:path>
              <a:path w="1985" h="5285">
                <a:moveTo>
                  <a:pt x="8806" y="11286"/>
                </a:moveTo>
                <a:cubicBezTo>
                  <a:pt x="8935" y="11286"/>
                  <a:pt x="9052" y="11283"/>
                  <a:pt x="9178" y="11261"/>
                </a:cubicBezTo>
              </a:path>
              <a:path w="1985" h="5285">
                <a:moveTo>
                  <a:pt x="9971" y="11013"/>
                </a:moveTo>
                <a:cubicBezTo>
                  <a:pt x="9913" y="11148"/>
                  <a:pt x="9922" y="11285"/>
                  <a:pt x="9922" y="11435"/>
                </a:cubicBezTo>
                <a:cubicBezTo>
                  <a:pt x="9922" y="11470"/>
                  <a:pt x="9927" y="11469"/>
                  <a:pt x="9947" y="11410"/>
                </a:cubicBezTo>
              </a:path>
              <a:path w="1985" h="5285">
                <a:moveTo>
                  <a:pt x="10443" y="10964"/>
                </a:moveTo>
                <a:cubicBezTo>
                  <a:pt x="10345" y="11002"/>
                  <a:pt x="10294" y="11128"/>
                  <a:pt x="10294" y="11237"/>
                </a:cubicBezTo>
                <a:cubicBezTo>
                  <a:pt x="10294" y="11475"/>
                  <a:pt x="10518" y="11446"/>
                  <a:pt x="10666" y="11336"/>
                </a:cubicBezTo>
                <a:cubicBezTo>
                  <a:pt x="10833" y="11212"/>
                  <a:pt x="10729" y="11034"/>
                  <a:pt x="10592" y="10964"/>
                </a:cubicBezTo>
                <a:cubicBezTo>
                  <a:pt x="10534" y="10945"/>
                  <a:pt x="10527" y="10936"/>
                  <a:pt x="10492" y="10939"/>
                </a:cubicBezTo>
              </a:path>
              <a:path w="1985" h="5285">
                <a:moveTo>
                  <a:pt x="9699" y="13568"/>
                </a:moveTo>
                <a:cubicBezTo>
                  <a:pt x="9798" y="13568"/>
                  <a:pt x="9897" y="13568"/>
                  <a:pt x="9996" y="13568"/>
                </a:cubicBezTo>
                <a:cubicBezTo>
                  <a:pt x="9861" y="13585"/>
                  <a:pt x="9733" y="13626"/>
                  <a:pt x="9599" y="13643"/>
                </a:cubicBezTo>
                <a:cubicBezTo>
                  <a:pt x="9716" y="13624"/>
                  <a:pt x="9826" y="13598"/>
                  <a:pt x="9947" y="13593"/>
                </a:cubicBezTo>
                <a:cubicBezTo>
                  <a:pt x="9971" y="13593"/>
                  <a:pt x="9979" y="13593"/>
                  <a:pt x="9947" y="13593"/>
                </a:cubicBezTo>
              </a:path>
              <a:path w="1985" h="5285">
                <a:moveTo>
                  <a:pt x="9723" y="12452"/>
                </a:moveTo>
                <a:cubicBezTo>
                  <a:pt x="9832" y="12322"/>
                  <a:pt x="9936" y="12251"/>
                  <a:pt x="10120" y="12254"/>
                </a:cubicBezTo>
                <a:cubicBezTo>
                  <a:pt x="10237" y="12256"/>
                  <a:pt x="10397" y="12292"/>
                  <a:pt x="10492" y="12353"/>
                </a:cubicBezTo>
                <a:cubicBezTo>
                  <a:pt x="10525" y="12374"/>
                  <a:pt x="10554" y="12388"/>
                  <a:pt x="10567" y="12427"/>
                </a:cubicBezTo>
                <a:cubicBezTo>
                  <a:pt x="10567" y="12435"/>
                  <a:pt x="10567" y="12444"/>
                  <a:pt x="10567" y="12452"/>
                </a:cubicBezTo>
                <a:cubicBezTo>
                  <a:pt x="10550" y="12393"/>
                  <a:pt x="10529" y="12338"/>
                  <a:pt x="10517" y="12278"/>
                </a:cubicBezTo>
                <a:cubicBezTo>
                  <a:pt x="10517" y="12249"/>
                  <a:pt x="10569" y="12320"/>
                  <a:pt x="10592" y="12353"/>
                </a:cubicBezTo>
                <a:cubicBezTo>
                  <a:pt x="10601" y="12366"/>
                  <a:pt x="10428" y="12464"/>
                  <a:pt x="10418" y="12477"/>
                </a:cubicBezTo>
              </a:path>
              <a:path w="1985" h="5285">
                <a:moveTo>
                  <a:pt x="9103" y="13965"/>
                </a:moveTo>
                <a:cubicBezTo>
                  <a:pt x="9044" y="13981"/>
                  <a:pt x="8851" y="14025"/>
                  <a:pt x="8806" y="14064"/>
                </a:cubicBezTo>
                <a:cubicBezTo>
                  <a:pt x="8774" y="14092"/>
                  <a:pt x="8761" y="14299"/>
                  <a:pt x="8756" y="14337"/>
                </a:cubicBezTo>
                <a:cubicBezTo>
                  <a:pt x="8831" y="14337"/>
                  <a:pt x="8881" y="14252"/>
                  <a:pt x="8954" y="14263"/>
                </a:cubicBezTo>
                <a:cubicBezTo>
                  <a:pt x="9185" y="14298"/>
                  <a:pt x="9101" y="14535"/>
                  <a:pt x="8954" y="14610"/>
                </a:cubicBezTo>
                <a:cubicBezTo>
                  <a:pt x="8860" y="14629"/>
                  <a:pt x="8840" y="14615"/>
                  <a:pt x="8806" y="1466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44960" y="5045040"/>
            <a:ext cx="581040" cy="223920"/>
          </a:xfrm>
          <a:custGeom>
            <a:avLst/>
            <a:gdLst/>
            <a:ahLst/>
            <a:rect l="l" t="t" r="r" b="b"/>
            <a:pathLst>
              <a:path w="1613" h="621">
                <a:moveTo>
                  <a:pt x="11609" y="14015"/>
                </a:moveTo>
                <a:cubicBezTo>
                  <a:pt x="11622" y="14015"/>
                  <a:pt x="11444" y="14062"/>
                  <a:pt x="11385" y="14089"/>
                </a:cubicBezTo>
                <a:cubicBezTo>
                  <a:pt x="11336" y="14114"/>
                  <a:pt x="11286" y="14138"/>
                  <a:pt x="11237" y="14163"/>
                </a:cubicBezTo>
                <a:cubicBezTo>
                  <a:pt x="11295" y="14261"/>
                  <a:pt x="11642" y="14364"/>
                  <a:pt x="11584" y="14511"/>
                </a:cubicBezTo>
                <a:cubicBezTo>
                  <a:pt x="11468" y="14603"/>
                  <a:pt x="11438" y="14634"/>
                  <a:pt x="11336" y="14635"/>
                </a:cubicBezTo>
                <a:cubicBezTo>
                  <a:pt x="11382" y="14463"/>
                  <a:pt x="11494" y="14333"/>
                  <a:pt x="11609" y="14188"/>
                </a:cubicBezTo>
                <a:cubicBezTo>
                  <a:pt x="11642" y="14153"/>
                  <a:pt x="11664" y="14145"/>
                  <a:pt x="11708" y="14163"/>
                </a:cubicBezTo>
              </a:path>
              <a:path w="1613" h="621">
                <a:moveTo>
                  <a:pt x="12005" y="14114"/>
                </a:moveTo>
                <a:cubicBezTo>
                  <a:pt x="11810" y="14220"/>
                  <a:pt x="11797" y="14299"/>
                  <a:pt x="11807" y="14511"/>
                </a:cubicBezTo>
                <a:cubicBezTo>
                  <a:pt x="11912" y="14533"/>
                  <a:pt x="12319" y="14535"/>
                  <a:pt x="12204" y="14288"/>
                </a:cubicBezTo>
                <a:cubicBezTo>
                  <a:pt x="12123" y="14227"/>
                  <a:pt x="12111" y="14212"/>
                  <a:pt x="12055" y="14188"/>
                </a:cubicBezTo>
              </a:path>
              <a:path w="1613" h="621">
                <a:moveTo>
                  <a:pt x="12477" y="14163"/>
                </a:moveTo>
                <a:cubicBezTo>
                  <a:pt x="12390" y="14379"/>
                  <a:pt x="12376" y="14399"/>
                  <a:pt x="12452" y="14610"/>
                </a:cubicBezTo>
                <a:cubicBezTo>
                  <a:pt x="12607" y="14582"/>
                  <a:pt x="13006" y="14459"/>
                  <a:pt x="12799" y="14213"/>
                </a:cubicBezTo>
                <a:cubicBezTo>
                  <a:pt x="12686" y="14167"/>
                  <a:pt x="12656" y="14151"/>
                  <a:pt x="12576" y="1416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1320" y="5232240"/>
            <a:ext cx="9720" cy="9720"/>
          </a:xfrm>
          <a:custGeom>
            <a:avLst/>
            <a:gdLst/>
            <a:ahLst/>
            <a:rect l="l" t="t" r="r" b="b"/>
            <a:pathLst>
              <a:path w="26" h="25">
                <a:moveTo>
                  <a:pt x="8086" y="14560"/>
                </a:moveTo>
                <a:cubicBezTo>
                  <a:pt x="8094" y="14552"/>
                  <a:pt x="8103" y="14544"/>
                  <a:pt x="8111" y="14536"/>
                </a:cubicBezTo>
              </a:path>
              <a:path w="26" h="25">
                <a:moveTo>
                  <a:pt x="8111" y="14536"/>
                </a:moveTo>
                <a:lnTo>
                  <a:pt x="8111" y="14536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0040" y="4902120"/>
            <a:ext cx="973080" cy="465120"/>
          </a:xfrm>
          <a:custGeom>
            <a:avLst/>
            <a:gdLst/>
            <a:ahLst/>
            <a:rect l="l" t="t" r="r" b="b"/>
            <a:pathLst>
              <a:path w="2705" h="1291">
                <a:moveTo>
                  <a:pt x="4713" y="13717"/>
                </a:moveTo>
                <a:cubicBezTo>
                  <a:pt x="4638" y="13717"/>
                  <a:pt x="4790" y="13688"/>
                  <a:pt x="4862" y="13667"/>
                </a:cubicBezTo>
                <a:cubicBezTo>
                  <a:pt x="4977" y="13629"/>
                  <a:pt x="4991" y="13613"/>
                  <a:pt x="5060" y="13618"/>
                </a:cubicBezTo>
                <a:cubicBezTo>
                  <a:pt x="4953" y="13653"/>
                  <a:pt x="4884" y="13688"/>
                  <a:pt x="4762" y="13692"/>
                </a:cubicBezTo>
                <a:cubicBezTo>
                  <a:pt x="4660" y="13695"/>
                  <a:pt x="4695" y="13698"/>
                  <a:pt x="4638" y="13717"/>
                </a:cubicBezTo>
              </a:path>
              <a:path w="2705" h="1291">
                <a:moveTo>
                  <a:pt x="5085" y="14213"/>
                </a:moveTo>
                <a:cubicBezTo>
                  <a:pt x="5025" y="14333"/>
                  <a:pt x="5023" y="14361"/>
                  <a:pt x="4961" y="14412"/>
                </a:cubicBezTo>
                <a:cubicBezTo>
                  <a:pt x="5076" y="14366"/>
                  <a:pt x="5134" y="14341"/>
                  <a:pt x="5283" y="14387"/>
                </a:cubicBezTo>
                <a:cubicBezTo>
                  <a:pt x="5383" y="14436"/>
                  <a:pt x="5416" y="14452"/>
                  <a:pt x="5432" y="14337"/>
                </a:cubicBezTo>
              </a:path>
              <a:path w="2705" h="1291">
                <a:moveTo>
                  <a:pt x="5383" y="14089"/>
                </a:moveTo>
                <a:cubicBezTo>
                  <a:pt x="5421" y="14307"/>
                  <a:pt x="5457" y="14512"/>
                  <a:pt x="5457" y="14734"/>
                </a:cubicBezTo>
              </a:path>
              <a:path w="2705" h="1291">
                <a:moveTo>
                  <a:pt x="5779" y="14784"/>
                </a:moveTo>
                <a:cubicBezTo>
                  <a:pt x="5779" y="14834"/>
                  <a:pt x="5779" y="14933"/>
                  <a:pt x="5779" y="14883"/>
                </a:cubicBezTo>
              </a:path>
              <a:path w="2705" h="1291">
                <a:moveTo>
                  <a:pt x="6077" y="14188"/>
                </a:moveTo>
                <a:cubicBezTo>
                  <a:pt x="5966" y="14389"/>
                  <a:pt x="5929" y="14484"/>
                  <a:pt x="5928" y="14709"/>
                </a:cubicBezTo>
                <a:cubicBezTo>
                  <a:pt x="6113" y="14740"/>
                  <a:pt x="6379" y="14632"/>
                  <a:pt x="6251" y="14362"/>
                </a:cubicBezTo>
                <a:cubicBezTo>
                  <a:pt x="6157" y="14292"/>
                  <a:pt x="6131" y="14269"/>
                  <a:pt x="6052" y="14263"/>
                </a:cubicBezTo>
              </a:path>
              <a:path w="2705" h="1291">
                <a:moveTo>
                  <a:pt x="6548" y="14139"/>
                </a:moveTo>
                <a:cubicBezTo>
                  <a:pt x="6431" y="14323"/>
                  <a:pt x="6416" y="14368"/>
                  <a:pt x="6424" y="14585"/>
                </a:cubicBezTo>
                <a:cubicBezTo>
                  <a:pt x="6597" y="14618"/>
                  <a:pt x="6912" y="14586"/>
                  <a:pt x="6796" y="14288"/>
                </a:cubicBezTo>
                <a:cubicBezTo>
                  <a:pt x="6766" y="14211"/>
                  <a:pt x="6706" y="14213"/>
                  <a:pt x="6623" y="14213"/>
                </a:cubicBezTo>
              </a:path>
              <a:path w="2705" h="1291">
                <a:moveTo>
                  <a:pt x="7069" y="14114"/>
                </a:moveTo>
                <a:cubicBezTo>
                  <a:pt x="6886" y="14330"/>
                  <a:pt x="6843" y="14443"/>
                  <a:pt x="6995" y="14684"/>
                </a:cubicBezTo>
                <a:cubicBezTo>
                  <a:pt x="7167" y="14608"/>
                  <a:pt x="7500" y="14472"/>
                  <a:pt x="7268" y="14238"/>
                </a:cubicBezTo>
                <a:cubicBezTo>
                  <a:pt x="7235" y="14221"/>
                  <a:pt x="7202" y="14205"/>
                  <a:pt x="7169" y="1418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13040" y="5062680"/>
            <a:ext cx="196920" cy="98280"/>
          </a:xfrm>
          <a:custGeom>
            <a:avLst/>
            <a:gdLst/>
            <a:ahLst/>
            <a:rect l="l" t="t" r="r" b="b"/>
            <a:pathLst>
              <a:path w="547" h="274">
                <a:moveTo>
                  <a:pt x="7813" y="14337"/>
                </a:moveTo>
                <a:cubicBezTo>
                  <a:pt x="7972" y="14337"/>
                  <a:pt x="8129" y="14323"/>
                  <a:pt x="8285" y="14288"/>
                </a:cubicBezTo>
                <a:cubicBezTo>
                  <a:pt x="8342" y="14269"/>
                  <a:pt x="8367" y="14243"/>
                  <a:pt x="8359" y="14288"/>
                </a:cubicBezTo>
              </a:path>
              <a:path w="547" h="274">
                <a:moveTo>
                  <a:pt x="8037" y="14064"/>
                </a:moveTo>
                <a:cubicBezTo>
                  <a:pt x="8037" y="14155"/>
                  <a:pt x="8037" y="14213"/>
                  <a:pt x="8037" y="14288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33ccff"/>
                </a:solidFill>
                <a:latin typeface="Verdana"/>
              </a:rPr>
              <a:t>Emily worked quickly through her unit test and wrote down 352.86 as the answer to her last problem which was 58.81 x 6. Estimate (mentally) to see if you think that her answer is reasonable.  Be prepared to explain your decision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3340080"/>
            <a:ext cx="2358720" cy="160200"/>
          </a:xfrm>
          <a:custGeom>
            <a:avLst/>
            <a:gdLst/>
            <a:ahLst/>
            <a:rect l="l" t="t" r="r" b="b"/>
            <a:pathLst>
              <a:path w="6550" h="447">
                <a:moveTo>
                  <a:pt x="9500" y="9649"/>
                </a:moveTo>
                <a:cubicBezTo>
                  <a:pt x="9541" y="9641"/>
                  <a:pt x="9583" y="9632"/>
                  <a:pt x="9624" y="9624"/>
                </a:cubicBezTo>
              </a:path>
              <a:path w="6550" h="447">
                <a:moveTo>
                  <a:pt x="11633" y="9277"/>
                </a:moveTo>
                <a:cubicBezTo>
                  <a:pt x="11544" y="9425"/>
                  <a:pt x="11476" y="9563"/>
                  <a:pt x="11410" y="9723"/>
                </a:cubicBezTo>
              </a:path>
              <a:path w="6550" h="447">
                <a:moveTo>
                  <a:pt x="13320" y="9302"/>
                </a:moveTo>
                <a:cubicBezTo>
                  <a:pt x="13460" y="9278"/>
                  <a:pt x="13501" y="9270"/>
                  <a:pt x="13593" y="9277"/>
                </a:cubicBezTo>
              </a:path>
              <a:path w="6550" h="447">
                <a:moveTo>
                  <a:pt x="13444" y="9401"/>
                </a:moveTo>
                <a:cubicBezTo>
                  <a:pt x="13586" y="9372"/>
                  <a:pt x="13644" y="9359"/>
                  <a:pt x="13742" y="9327"/>
                </a:cubicBezTo>
              </a:path>
              <a:path w="6550" h="447">
                <a:moveTo>
                  <a:pt x="16049" y="9401"/>
                </a:moveTo>
                <a:lnTo>
                  <a:pt x="16049" y="9401"/>
                </a:lnTo>
                <a:lnTo>
                  <a:pt x="16049" y="9401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38320" y="3321000"/>
            <a:ext cx="401760" cy="243000"/>
          </a:xfrm>
          <a:custGeom>
            <a:avLst/>
            <a:gdLst/>
            <a:ahLst/>
            <a:rect l="l" t="t" r="r" b="b"/>
            <a:pathLst>
              <a:path w="1117" h="671">
                <a:moveTo>
                  <a:pt x="8607" y="9227"/>
                </a:moveTo>
                <a:cubicBezTo>
                  <a:pt x="8531" y="9227"/>
                  <a:pt x="8417" y="9201"/>
                  <a:pt x="8359" y="9252"/>
                </a:cubicBezTo>
                <a:cubicBezTo>
                  <a:pt x="8309" y="9296"/>
                  <a:pt x="8289" y="9338"/>
                  <a:pt x="8285" y="9401"/>
                </a:cubicBezTo>
                <a:cubicBezTo>
                  <a:pt x="8282" y="9444"/>
                  <a:pt x="8293" y="9523"/>
                  <a:pt x="8334" y="9525"/>
                </a:cubicBezTo>
                <a:cubicBezTo>
                  <a:pt x="8459" y="9532"/>
                  <a:pt x="8582" y="9496"/>
                  <a:pt x="8582" y="9674"/>
                </a:cubicBezTo>
                <a:cubicBezTo>
                  <a:pt x="8582" y="9857"/>
                  <a:pt x="8373" y="9946"/>
                  <a:pt x="8210" y="9897"/>
                </a:cubicBezTo>
                <a:cubicBezTo>
                  <a:pt x="8194" y="9880"/>
                  <a:pt x="8177" y="9864"/>
                  <a:pt x="8161" y="9847"/>
                </a:cubicBezTo>
              </a:path>
              <a:path w="1117" h="671">
                <a:moveTo>
                  <a:pt x="9203" y="9277"/>
                </a:moveTo>
                <a:cubicBezTo>
                  <a:pt x="9064" y="9294"/>
                  <a:pt x="9024" y="9319"/>
                  <a:pt x="8905" y="9401"/>
                </a:cubicBezTo>
                <a:cubicBezTo>
                  <a:pt x="8971" y="9521"/>
                  <a:pt x="9251" y="9566"/>
                  <a:pt x="9277" y="9723"/>
                </a:cubicBezTo>
                <a:cubicBezTo>
                  <a:pt x="9224" y="9829"/>
                  <a:pt x="9200" y="9865"/>
                  <a:pt x="9103" y="9872"/>
                </a:cubicBezTo>
                <a:cubicBezTo>
                  <a:pt x="9028" y="9671"/>
                  <a:pt x="9076" y="9592"/>
                  <a:pt x="9153" y="9401"/>
                </a:cubicBezTo>
                <a:cubicBezTo>
                  <a:pt x="9153" y="9393"/>
                  <a:pt x="9153" y="9384"/>
                  <a:pt x="9153" y="937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06840" y="3348000"/>
            <a:ext cx="250920" cy="152280"/>
          </a:xfrm>
          <a:custGeom>
            <a:avLst/>
            <a:gdLst/>
            <a:ahLst/>
            <a:rect l="l" t="t" r="r" b="b"/>
            <a:pathLst>
              <a:path w="696" h="422">
                <a:moveTo>
                  <a:pt x="10244" y="9302"/>
                </a:moveTo>
                <a:cubicBezTo>
                  <a:pt x="9985" y="9400"/>
                  <a:pt x="10002" y="9392"/>
                  <a:pt x="10195" y="9575"/>
                </a:cubicBezTo>
                <a:cubicBezTo>
                  <a:pt x="10228" y="9608"/>
                  <a:pt x="10261" y="9641"/>
                  <a:pt x="10294" y="9674"/>
                </a:cubicBezTo>
                <a:cubicBezTo>
                  <a:pt x="10318" y="9722"/>
                  <a:pt x="10328" y="9738"/>
                  <a:pt x="10269" y="9723"/>
                </a:cubicBezTo>
                <a:cubicBezTo>
                  <a:pt x="10072" y="9681"/>
                  <a:pt x="10116" y="9614"/>
                  <a:pt x="10244" y="9475"/>
                </a:cubicBezTo>
                <a:cubicBezTo>
                  <a:pt x="10311" y="9402"/>
                  <a:pt x="10286" y="9444"/>
                  <a:pt x="10269" y="9376"/>
                </a:cubicBezTo>
              </a:path>
              <a:path w="696" h="422">
                <a:moveTo>
                  <a:pt x="10592" y="9302"/>
                </a:moveTo>
                <a:cubicBezTo>
                  <a:pt x="10619" y="9455"/>
                  <a:pt x="10623" y="9596"/>
                  <a:pt x="10716" y="972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89240" y="3375000"/>
            <a:ext cx="90720" cy="125280"/>
          </a:xfrm>
          <a:custGeom>
            <a:avLst/>
            <a:gdLst/>
            <a:ahLst/>
            <a:rect l="l" t="t" r="r" b="b"/>
            <a:pathLst>
              <a:path w="249" h="348">
                <a:moveTo>
                  <a:pt x="11361" y="9376"/>
                </a:moveTo>
                <a:cubicBezTo>
                  <a:pt x="11423" y="9521"/>
                  <a:pt x="11471" y="9724"/>
                  <a:pt x="11609" y="967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21080" y="3313080"/>
            <a:ext cx="206640" cy="204840"/>
          </a:xfrm>
          <a:custGeom>
            <a:avLst/>
            <a:gdLst/>
            <a:ahLst/>
            <a:rect l="l" t="t" r="r" b="b"/>
            <a:pathLst>
              <a:path w="572" h="571">
                <a:moveTo>
                  <a:pt x="12105" y="9203"/>
                </a:moveTo>
                <a:cubicBezTo>
                  <a:pt x="12061" y="9318"/>
                  <a:pt x="11892" y="9628"/>
                  <a:pt x="12055" y="9723"/>
                </a:cubicBezTo>
                <a:cubicBezTo>
                  <a:pt x="12232" y="9826"/>
                  <a:pt x="12370" y="9632"/>
                  <a:pt x="12477" y="9525"/>
                </a:cubicBezTo>
                <a:cubicBezTo>
                  <a:pt x="12381" y="9550"/>
                  <a:pt x="12163" y="9798"/>
                  <a:pt x="12402" y="9773"/>
                </a:cubicBezTo>
                <a:cubicBezTo>
                  <a:pt x="12460" y="9748"/>
                  <a:pt x="12518" y="9724"/>
                  <a:pt x="12576" y="969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37120" y="3241800"/>
            <a:ext cx="650880" cy="206280"/>
          </a:xfrm>
          <a:custGeom>
            <a:avLst/>
            <a:gdLst/>
            <a:ahLst/>
            <a:rect l="l" t="t" r="r" b="b"/>
            <a:pathLst>
              <a:path w="1812" h="572">
                <a:moveTo>
                  <a:pt x="13990" y="9103"/>
                </a:moveTo>
                <a:cubicBezTo>
                  <a:pt x="14051" y="9099"/>
                  <a:pt x="14374" y="9023"/>
                  <a:pt x="14362" y="9153"/>
                </a:cubicBezTo>
                <a:cubicBezTo>
                  <a:pt x="14308" y="9233"/>
                  <a:pt x="14285" y="9261"/>
                  <a:pt x="14213" y="9277"/>
                </a:cubicBezTo>
                <a:cubicBezTo>
                  <a:pt x="14196" y="9277"/>
                  <a:pt x="14180" y="9277"/>
                  <a:pt x="14163" y="9277"/>
                </a:cubicBezTo>
                <a:cubicBezTo>
                  <a:pt x="14317" y="9294"/>
                  <a:pt x="14367" y="9315"/>
                  <a:pt x="14461" y="9426"/>
                </a:cubicBezTo>
                <a:cubicBezTo>
                  <a:pt x="14298" y="9566"/>
                  <a:pt x="14244" y="9616"/>
                  <a:pt x="14064" y="9500"/>
                </a:cubicBezTo>
              </a:path>
              <a:path w="1812" h="572">
                <a:moveTo>
                  <a:pt x="15007" y="9004"/>
                </a:moveTo>
                <a:cubicBezTo>
                  <a:pt x="14945" y="9011"/>
                  <a:pt x="14802" y="9018"/>
                  <a:pt x="14784" y="9054"/>
                </a:cubicBezTo>
                <a:cubicBezTo>
                  <a:pt x="14764" y="9094"/>
                  <a:pt x="14729" y="9138"/>
                  <a:pt x="14709" y="9178"/>
                </a:cubicBezTo>
                <a:cubicBezTo>
                  <a:pt x="14838" y="9202"/>
                  <a:pt x="14996" y="9165"/>
                  <a:pt x="15081" y="9277"/>
                </a:cubicBezTo>
                <a:cubicBezTo>
                  <a:pt x="15224" y="9467"/>
                  <a:pt x="14919" y="9480"/>
                  <a:pt x="14833" y="9475"/>
                </a:cubicBezTo>
              </a:path>
              <a:path w="1812" h="572">
                <a:moveTo>
                  <a:pt x="15478" y="9054"/>
                </a:moveTo>
                <a:cubicBezTo>
                  <a:pt x="15590" y="9054"/>
                  <a:pt x="15705" y="9044"/>
                  <a:pt x="15751" y="9178"/>
                </a:cubicBezTo>
                <a:cubicBezTo>
                  <a:pt x="15812" y="9357"/>
                  <a:pt x="15617" y="9521"/>
                  <a:pt x="15453" y="9426"/>
                </a:cubicBezTo>
                <a:cubicBezTo>
                  <a:pt x="15437" y="9401"/>
                  <a:pt x="15420" y="9376"/>
                  <a:pt x="15404" y="9351"/>
                </a:cubicBezTo>
                <a:cubicBezTo>
                  <a:pt x="15484" y="9240"/>
                  <a:pt x="15515" y="9271"/>
                  <a:pt x="15627" y="9351"/>
                </a:cubicBezTo>
                <a:cubicBezTo>
                  <a:pt x="15721" y="9422"/>
                  <a:pt x="15750" y="9443"/>
                  <a:pt x="15801" y="9500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92840" y="3251160"/>
            <a:ext cx="376200" cy="204840"/>
          </a:xfrm>
          <a:custGeom>
            <a:avLst/>
            <a:gdLst/>
            <a:ahLst/>
            <a:rect l="l" t="t" r="r" b="b"/>
            <a:pathLst>
              <a:path w="1043" h="571">
                <a:moveTo>
                  <a:pt x="16570" y="9029"/>
                </a:moveTo>
                <a:cubicBezTo>
                  <a:pt x="16253" y="9108"/>
                  <a:pt x="16449" y="9141"/>
                  <a:pt x="16594" y="9351"/>
                </a:cubicBezTo>
                <a:cubicBezTo>
                  <a:pt x="16611" y="9384"/>
                  <a:pt x="16627" y="9418"/>
                  <a:pt x="16644" y="9451"/>
                </a:cubicBezTo>
                <a:cubicBezTo>
                  <a:pt x="16627" y="9459"/>
                  <a:pt x="16611" y="9467"/>
                  <a:pt x="16594" y="9475"/>
                </a:cubicBezTo>
                <a:cubicBezTo>
                  <a:pt x="16303" y="9410"/>
                  <a:pt x="16418" y="9304"/>
                  <a:pt x="16619" y="9153"/>
                </a:cubicBezTo>
                <a:cubicBezTo>
                  <a:pt x="16644" y="9136"/>
                  <a:pt x="16669" y="9120"/>
                  <a:pt x="16694" y="9103"/>
                </a:cubicBezTo>
              </a:path>
              <a:path w="1043" h="571">
                <a:moveTo>
                  <a:pt x="16991" y="9029"/>
                </a:moveTo>
                <a:cubicBezTo>
                  <a:pt x="16991" y="9170"/>
                  <a:pt x="16934" y="9338"/>
                  <a:pt x="16966" y="9475"/>
                </a:cubicBezTo>
                <a:cubicBezTo>
                  <a:pt x="17014" y="9681"/>
                  <a:pt x="17355" y="9480"/>
                  <a:pt x="17413" y="9376"/>
                </a:cubicBezTo>
                <a:cubicBezTo>
                  <a:pt x="17405" y="9360"/>
                  <a:pt x="17396" y="9343"/>
                  <a:pt x="17388" y="9327"/>
                </a:cubicBezTo>
                <a:cubicBezTo>
                  <a:pt x="17228" y="9370"/>
                  <a:pt x="17192" y="9425"/>
                  <a:pt x="17165" y="959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3830760"/>
            <a:ext cx="33156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9748" y="10641"/>
                </a:moveTo>
                <a:cubicBezTo>
                  <a:pt x="9665" y="10829"/>
                  <a:pt x="9500" y="11037"/>
                  <a:pt x="9500" y="11261"/>
                </a:cubicBezTo>
                <a:cubicBezTo>
                  <a:pt x="9500" y="11613"/>
                  <a:pt x="9887" y="11179"/>
                  <a:pt x="9947" y="11112"/>
                </a:cubicBezTo>
                <a:cubicBezTo>
                  <a:pt x="9890" y="11097"/>
                  <a:pt x="9460" y="11147"/>
                  <a:pt x="9624" y="11311"/>
                </a:cubicBezTo>
                <a:cubicBezTo>
                  <a:pt x="9657" y="11311"/>
                  <a:pt x="9690" y="11311"/>
                  <a:pt x="9723" y="11311"/>
                </a:cubicBezTo>
              </a:path>
              <a:path w="919" h="745">
                <a:moveTo>
                  <a:pt x="10294" y="10815"/>
                </a:moveTo>
                <a:cubicBezTo>
                  <a:pt x="10067" y="10980"/>
                  <a:pt x="9983" y="11070"/>
                  <a:pt x="10096" y="11336"/>
                </a:cubicBezTo>
                <a:cubicBezTo>
                  <a:pt x="10279" y="11275"/>
                  <a:pt x="10616" y="11128"/>
                  <a:pt x="10319" y="10914"/>
                </a:cubicBezTo>
                <a:cubicBezTo>
                  <a:pt x="10220" y="10889"/>
                  <a:pt x="10187" y="10881"/>
                  <a:pt x="10319" y="10864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83040" y="3884760"/>
            <a:ext cx="81000" cy="14256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11088" y="10840"/>
                </a:moveTo>
                <a:cubicBezTo>
                  <a:pt x="11096" y="10870"/>
                  <a:pt x="11202" y="11169"/>
                  <a:pt x="11237" y="11162"/>
                </a:cubicBezTo>
                <a:cubicBezTo>
                  <a:pt x="11245" y="11145"/>
                  <a:pt x="11253" y="11129"/>
                  <a:pt x="11261" y="11112"/>
                </a:cubicBezTo>
              </a:path>
              <a:path w="224" h="398">
                <a:moveTo>
                  <a:pt x="11286" y="10790"/>
                </a:moveTo>
                <a:cubicBezTo>
                  <a:pt x="11251" y="10851"/>
                  <a:pt x="10925" y="11301"/>
                  <a:pt x="11137" y="11112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5160" y="3857760"/>
            <a:ext cx="169920" cy="196560"/>
          </a:xfrm>
          <a:custGeom>
            <a:avLst/>
            <a:gdLst/>
            <a:ahLst/>
            <a:rect l="l" t="t" r="r" b="b"/>
            <a:pathLst>
              <a:path w="472" h="546">
                <a:moveTo>
                  <a:pt x="11782" y="10716"/>
                </a:moveTo>
                <a:cubicBezTo>
                  <a:pt x="11751" y="10810"/>
                  <a:pt x="11599" y="11145"/>
                  <a:pt x="11733" y="11212"/>
                </a:cubicBezTo>
                <a:cubicBezTo>
                  <a:pt x="11880" y="11286"/>
                  <a:pt x="12053" y="11086"/>
                  <a:pt x="12154" y="11013"/>
                </a:cubicBezTo>
                <a:cubicBezTo>
                  <a:pt x="12154" y="11005"/>
                  <a:pt x="12154" y="10996"/>
                  <a:pt x="12154" y="10988"/>
                </a:cubicBezTo>
                <a:cubicBezTo>
                  <a:pt x="12097" y="10999"/>
                  <a:pt x="11730" y="11190"/>
                  <a:pt x="11956" y="11261"/>
                </a:cubicBezTo>
                <a:cubicBezTo>
                  <a:pt x="11997" y="11253"/>
                  <a:pt x="12039" y="11245"/>
                  <a:pt x="12080" y="1123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53000" y="3803760"/>
            <a:ext cx="990720" cy="179280"/>
          </a:xfrm>
          <a:custGeom>
            <a:avLst/>
            <a:gdLst/>
            <a:ahLst/>
            <a:rect l="l" t="t" r="r" b="b"/>
            <a:pathLst>
              <a:path w="2755" h="497">
                <a:moveTo>
                  <a:pt x="12923" y="10790"/>
                </a:moveTo>
                <a:cubicBezTo>
                  <a:pt x="13062" y="10744"/>
                  <a:pt x="13100" y="10727"/>
                  <a:pt x="13196" y="10740"/>
                </a:cubicBezTo>
              </a:path>
              <a:path w="2755" h="497">
                <a:moveTo>
                  <a:pt x="13022" y="10914"/>
                </a:moveTo>
                <a:cubicBezTo>
                  <a:pt x="13097" y="10889"/>
                  <a:pt x="13171" y="10865"/>
                  <a:pt x="13246" y="10840"/>
                </a:cubicBezTo>
              </a:path>
              <a:path w="2755" h="497">
                <a:moveTo>
                  <a:pt x="13246" y="10840"/>
                </a:moveTo>
                <a:lnTo>
                  <a:pt x="13246" y="10840"/>
                </a:lnTo>
              </a:path>
              <a:path w="2755" h="497">
                <a:moveTo>
                  <a:pt x="15329" y="10691"/>
                </a:moveTo>
                <a:cubicBezTo>
                  <a:pt x="15249" y="10884"/>
                  <a:pt x="15215" y="10894"/>
                  <a:pt x="15304" y="11063"/>
                </a:cubicBezTo>
                <a:cubicBezTo>
                  <a:pt x="15511" y="10997"/>
                  <a:pt x="15559" y="10970"/>
                  <a:pt x="15677" y="10790"/>
                </a:cubicBezTo>
                <a:cubicBezTo>
                  <a:pt x="15577" y="10666"/>
                  <a:pt x="15544" y="10625"/>
                  <a:pt x="15453" y="10567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18040" y="3776760"/>
            <a:ext cx="411120" cy="206280"/>
          </a:xfrm>
          <a:custGeom>
            <a:avLst/>
            <a:gdLst/>
            <a:ahLst/>
            <a:rect l="l" t="t" r="r" b="b"/>
            <a:pathLst>
              <a:path w="1142" h="572">
                <a:moveTo>
                  <a:pt x="13940" y="10567"/>
                </a:moveTo>
                <a:cubicBezTo>
                  <a:pt x="14003" y="10550"/>
                  <a:pt x="14489" y="10438"/>
                  <a:pt x="14362" y="10616"/>
                </a:cubicBezTo>
                <a:cubicBezTo>
                  <a:pt x="14272" y="10684"/>
                  <a:pt x="14249" y="10703"/>
                  <a:pt x="14188" y="10740"/>
                </a:cubicBezTo>
                <a:cubicBezTo>
                  <a:pt x="14364" y="10740"/>
                  <a:pt x="14371" y="10746"/>
                  <a:pt x="14511" y="10840"/>
                </a:cubicBezTo>
                <a:cubicBezTo>
                  <a:pt x="14391" y="11065"/>
                  <a:pt x="14277" y="11036"/>
                  <a:pt x="14039" y="10939"/>
                </a:cubicBezTo>
              </a:path>
              <a:path w="1142" h="572">
                <a:moveTo>
                  <a:pt x="14709" y="10492"/>
                </a:moveTo>
                <a:cubicBezTo>
                  <a:pt x="14676" y="10607"/>
                  <a:pt x="14527" y="10943"/>
                  <a:pt x="14709" y="11013"/>
                </a:cubicBezTo>
                <a:cubicBezTo>
                  <a:pt x="14864" y="11072"/>
                  <a:pt x="14978" y="10947"/>
                  <a:pt x="15081" y="10864"/>
                </a:cubicBezTo>
                <a:cubicBezTo>
                  <a:pt x="14976" y="10817"/>
                  <a:pt x="14638" y="10960"/>
                  <a:pt x="14808" y="11063"/>
                </a:cubicBezTo>
                <a:cubicBezTo>
                  <a:pt x="14858" y="11063"/>
                  <a:pt x="14907" y="11063"/>
                  <a:pt x="14957" y="11063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91200" y="3571920"/>
            <a:ext cx="743040" cy="206280"/>
          </a:xfrm>
          <a:custGeom>
            <a:avLst/>
            <a:gdLst/>
            <a:ahLst/>
            <a:rect l="l" t="t" r="r" b="b"/>
            <a:pathLst>
              <a:path w="2060" h="571">
                <a:moveTo>
                  <a:pt x="19422" y="10492"/>
                </a:moveTo>
                <a:cubicBezTo>
                  <a:pt x="19498" y="10480"/>
                  <a:pt x="19528" y="10457"/>
                  <a:pt x="19596" y="10418"/>
                </a:cubicBezTo>
              </a:path>
              <a:path w="2060" h="571">
                <a:moveTo>
                  <a:pt x="20786" y="9922"/>
                </a:moveTo>
                <a:cubicBezTo>
                  <a:pt x="20803" y="9922"/>
                  <a:pt x="20819" y="9922"/>
                  <a:pt x="20836" y="9922"/>
                </a:cubicBezTo>
              </a:path>
              <a:path w="2060" h="571">
                <a:moveTo>
                  <a:pt x="20836" y="9922"/>
                </a:moveTo>
                <a:lnTo>
                  <a:pt x="20836" y="9922"/>
                </a:lnTo>
              </a:path>
              <a:path w="2060" h="571">
                <a:moveTo>
                  <a:pt x="21134" y="10096"/>
                </a:moveTo>
                <a:cubicBezTo>
                  <a:pt x="21305" y="10047"/>
                  <a:pt x="21361" y="10030"/>
                  <a:pt x="21481" y="1004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32720" y="3679920"/>
            <a:ext cx="581040" cy="365040"/>
          </a:xfrm>
          <a:custGeom>
            <a:avLst/>
            <a:gdLst/>
            <a:ahLst/>
            <a:rect l="l" t="t" r="r" b="b"/>
            <a:pathLst>
              <a:path w="1613" h="1018">
                <a:moveTo>
                  <a:pt x="18728" y="10269"/>
                </a:moveTo>
                <a:cubicBezTo>
                  <a:pt x="18705" y="10386"/>
                  <a:pt x="18695" y="10521"/>
                  <a:pt x="18802" y="10616"/>
                </a:cubicBezTo>
                <a:cubicBezTo>
                  <a:pt x="19024" y="10813"/>
                  <a:pt x="19102" y="10502"/>
                  <a:pt x="19075" y="10344"/>
                </a:cubicBezTo>
                <a:cubicBezTo>
                  <a:pt x="19067" y="10336"/>
                  <a:pt x="19058" y="10327"/>
                  <a:pt x="19050" y="10319"/>
                </a:cubicBezTo>
                <a:cubicBezTo>
                  <a:pt x="19119" y="10528"/>
                  <a:pt x="19313" y="10723"/>
                  <a:pt x="19273" y="10964"/>
                </a:cubicBezTo>
                <a:cubicBezTo>
                  <a:pt x="19223" y="11267"/>
                  <a:pt x="18933" y="11206"/>
                  <a:pt x="18728" y="11212"/>
                </a:cubicBezTo>
              </a:path>
              <a:path w="1613" h="1018">
                <a:moveTo>
                  <a:pt x="19521" y="10319"/>
                </a:moveTo>
                <a:cubicBezTo>
                  <a:pt x="19609" y="10313"/>
                  <a:pt x="19686" y="10330"/>
                  <a:pt x="19645" y="10269"/>
                </a:cubicBezTo>
                <a:cubicBezTo>
                  <a:pt x="19483" y="10219"/>
                  <a:pt x="19244" y="10303"/>
                  <a:pt x="19348" y="10542"/>
                </a:cubicBezTo>
                <a:cubicBezTo>
                  <a:pt x="19481" y="10642"/>
                  <a:pt x="19557" y="10658"/>
                  <a:pt x="19695" y="10567"/>
                </a:cubicBezTo>
              </a:path>
              <a:path w="1613" h="1018">
                <a:moveTo>
                  <a:pt x="20166" y="10220"/>
                </a:moveTo>
                <a:cubicBezTo>
                  <a:pt x="20049" y="10220"/>
                  <a:pt x="20015" y="10218"/>
                  <a:pt x="19943" y="10244"/>
                </a:cubicBezTo>
                <a:cubicBezTo>
                  <a:pt x="20023" y="10379"/>
                  <a:pt x="20204" y="10292"/>
                  <a:pt x="20315" y="10418"/>
                </a:cubicBezTo>
                <a:cubicBezTo>
                  <a:pt x="20403" y="10518"/>
                  <a:pt x="20064" y="10539"/>
                  <a:pt x="19968" y="10418"/>
                </a:cubicBezTo>
              </a:path>
              <a:path w="1613" h="1018">
                <a:moveTo>
                  <a:pt x="19472" y="10542"/>
                </a:moveTo>
                <a:cubicBezTo>
                  <a:pt x="19513" y="10513"/>
                  <a:pt x="19640" y="10462"/>
                  <a:pt x="19645" y="10443"/>
                </a:cubicBezTo>
                <a:cubicBezTo>
                  <a:pt x="19654" y="10408"/>
                  <a:pt x="19653" y="10341"/>
                  <a:pt x="19621" y="10319"/>
                </a:cubicBezTo>
                <a:cubicBezTo>
                  <a:pt x="19538" y="10261"/>
                  <a:pt x="19495" y="10252"/>
                  <a:pt x="19422" y="10319"/>
                </a:cubicBezTo>
                <a:cubicBezTo>
                  <a:pt x="19237" y="10488"/>
                  <a:pt x="19328" y="10667"/>
                  <a:pt x="19571" y="10691"/>
                </a:cubicBezTo>
                <a:cubicBezTo>
                  <a:pt x="19629" y="10683"/>
                  <a:pt x="19687" y="10674"/>
                  <a:pt x="19745" y="1066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45240" y="3510000"/>
            <a:ext cx="142920" cy="268200"/>
          </a:xfrm>
          <a:custGeom>
            <a:avLst/>
            <a:gdLst/>
            <a:ahLst/>
            <a:rect l="l" t="t" r="r" b="b"/>
            <a:pathLst>
              <a:path w="398" h="745">
                <a:moveTo>
                  <a:pt x="20960" y="10170"/>
                </a:moveTo>
                <a:cubicBezTo>
                  <a:pt x="20960" y="10281"/>
                  <a:pt x="20950" y="10386"/>
                  <a:pt x="20985" y="10492"/>
                </a:cubicBezTo>
                <a:cubicBezTo>
                  <a:pt x="20985" y="10484"/>
                  <a:pt x="20985" y="10476"/>
                  <a:pt x="20985" y="10468"/>
                </a:cubicBezTo>
              </a:path>
              <a:path w="398" h="745">
                <a:moveTo>
                  <a:pt x="21233" y="9748"/>
                </a:moveTo>
                <a:cubicBezTo>
                  <a:pt x="21250" y="9947"/>
                  <a:pt x="21278" y="10139"/>
                  <a:pt x="21357" y="1031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11960" y="417996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7810" y="11609"/>
                </a:moveTo>
                <a:cubicBezTo>
                  <a:pt x="17818" y="11609"/>
                  <a:pt x="17827" y="11609"/>
                  <a:pt x="17835" y="11609"/>
                </a:cubicBezTo>
              </a:path>
              <a:path w="26" h="1">
                <a:moveTo>
                  <a:pt x="17835" y="11609"/>
                </a:moveTo>
                <a:lnTo>
                  <a:pt x="17835" y="11609"/>
                </a:ln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29240" y="4205160"/>
            <a:ext cx="231840" cy="152640"/>
          </a:xfrm>
          <a:custGeom>
            <a:avLst/>
            <a:gdLst/>
            <a:ahLst/>
            <a:rect l="l" t="t" r="r" b="b"/>
            <a:pathLst>
              <a:path w="646" h="423">
                <a:moveTo>
                  <a:pt x="17859" y="11832"/>
                </a:moveTo>
                <a:cubicBezTo>
                  <a:pt x="17877" y="11922"/>
                  <a:pt x="17898" y="12014"/>
                  <a:pt x="17909" y="12105"/>
                </a:cubicBezTo>
              </a:path>
              <a:path w="646" h="423">
                <a:moveTo>
                  <a:pt x="18207" y="11683"/>
                </a:moveTo>
                <a:cubicBezTo>
                  <a:pt x="18171" y="11791"/>
                  <a:pt x="18402" y="11798"/>
                  <a:pt x="18504" y="11832"/>
                </a:cubicBezTo>
                <a:cubicBezTo>
                  <a:pt x="18438" y="12030"/>
                  <a:pt x="18348" y="11995"/>
                  <a:pt x="18182" y="11906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46920" y="3830760"/>
            <a:ext cx="1554120" cy="447480"/>
          </a:xfrm>
          <a:custGeom>
            <a:avLst/>
            <a:gdLst/>
            <a:ahLst/>
            <a:rect l="l" t="t" r="r" b="b"/>
            <a:pathLst>
              <a:path w="4317" h="1241">
                <a:moveTo>
                  <a:pt x="19298" y="11658"/>
                </a:moveTo>
                <a:cubicBezTo>
                  <a:pt x="19359" y="11781"/>
                  <a:pt x="19374" y="11802"/>
                  <a:pt x="19397" y="11881"/>
                </a:cubicBezTo>
                <a:cubicBezTo>
                  <a:pt x="19299" y="11734"/>
                  <a:pt x="19201" y="11548"/>
                  <a:pt x="19422" y="11460"/>
                </a:cubicBezTo>
                <a:cubicBezTo>
                  <a:pt x="19572" y="11438"/>
                  <a:pt x="19606" y="11424"/>
                  <a:pt x="19695" y="11460"/>
                </a:cubicBezTo>
              </a:path>
              <a:path w="4317" h="1241">
                <a:moveTo>
                  <a:pt x="19670" y="11633"/>
                </a:moveTo>
                <a:cubicBezTo>
                  <a:pt x="19791" y="11585"/>
                  <a:pt x="19830" y="11571"/>
                  <a:pt x="19893" y="11509"/>
                </a:cubicBezTo>
                <a:cubicBezTo>
                  <a:pt x="19827" y="11461"/>
                  <a:pt x="19605" y="11560"/>
                  <a:pt x="19645" y="11683"/>
                </a:cubicBezTo>
                <a:cubicBezTo>
                  <a:pt x="19772" y="11777"/>
                  <a:pt x="19838" y="11798"/>
                  <a:pt x="19968" y="11733"/>
                </a:cubicBezTo>
              </a:path>
              <a:path w="4317" h="1241">
                <a:moveTo>
                  <a:pt x="20241" y="11460"/>
                </a:moveTo>
                <a:cubicBezTo>
                  <a:pt x="20038" y="11545"/>
                  <a:pt x="20003" y="11528"/>
                  <a:pt x="19943" y="11733"/>
                </a:cubicBezTo>
                <a:cubicBezTo>
                  <a:pt x="20118" y="11743"/>
                  <a:pt x="20171" y="11744"/>
                  <a:pt x="20241" y="11559"/>
                </a:cubicBezTo>
                <a:cubicBezTo>
                  <a:pt x="20331" y="11741"/>
                  <a:pt x="20433" y="11662"/>
                  <a:pt x="20588" y="11609"/>
                </a:cubicBezTo>
              </a:path>
              <a:path w="4317" h="1241">
                <a:moveTo>
                  <a:pt x="20613" y="11237"/>
                </a:moveTo>
                <a:cubicBezTo>
                  <a:pt x="20592" y="11358"/>
                  <a:pt x="20752" y="11402"/>
                  <a:pt x="20861" y="11460"/>
                </a:cubicBezTo>
                <a:cubicBezTo>
                  <a:pt x="20746" y="11548"/>
                  <a:pt x="20691" y="11522"/>
                  <a:pt x="20538" y="11509"/>
                </a:cubicBezTo>
              </a:path>
              <a:path w="4317" h="1241">
                <a:moveTo>
                  <a:pt x="21109" y="11137"/>
                </a:moveTo>
                <a:cubicBezTo>
                  <a:pt x="20938" y="11245"/>
                  <a:pt x="20924" y="11261"/>
                  <a:pt x="20886" y="11460"/>
                </a:cubicBezTo>
                <a:cubicBezTo>
                  <a:pt x="21006" y="11493"/>
                  <a:pt x="21358" y="11498"/>
                  <a:pt x="21158" y="11261"/>
                </a:cubicBezTo>
                <a:cubicBezTo>
                  <a:pt x="21050" y="11188"/>
                  <a:pt x="21034" y="11189"/>
                  <a:pt x="20985" y="11137"/>
                </a:cubicBezTo>
              </a:path>
              <a:path w="4317" h="1241">
                <a:moveTo>
                  <a:pt x="21332" y="11237"/>
                </a:moveTo>
                <a:cubicBezTo>
                  <a:pt x="21352" y="11336"/>
                  <a:pt x="21360" y="11351"/>
                  <a:pt x="21357" y="11410"/>
                </a:cubicBezTo>
                <a:cubicBezTo>
                  <a:pt x="21336" y="11304"/>
                  <a:pt x="21292" y="11185"/>
                  <a:pt x="21382" y="11088"/>
                </a:cubicBezTo>
                <a:cubicBezTo>
                  <a:pt x="21579" y="10876"/>
                  <a:pt x="21680" y="11272"/>
                  <a:pt x="21729" y="11385"/>
                </a:cubicBezTo>
                <a:cubicBezTo>
                  <a:pt x="21737" y="11402"/>
                  <a:pt x="21746" y="11418"/>
                  <a:pt x="21754" y="11435"/>
                </a:cubicBezTo>
              </a:path>
              <a:path w="4317" h="1241">
                <a:moveTo>
                  <a:pt x="22175" y="11013"/>
                </a:moveTo>
                <a:cubicBezTo>
                  <a:pt x="22047" y="10991"/>
                  <a:pt x="21762" y="11053"/>
                  <a:pt x="21853" y="11286"/>
                </a:cubicBezTo>
                <a:cubicBezTo>
                  <a:pt x="21937" y="11501"/>
                  <a:pt x="22069" y="11087"/>
                  <a:pt x="22076" y="11038"/>
                </a:cubicBezTo>
                <a:cubicBezTo>
                  <a:pt x="22104" y="11132"/>
                  <a:pt x="22265" y="11336"/>
                  <a:pt x="22374" y="11162"/>
                </a:cubicBezTo>
                <a:cubicBezTo>
                  <a:pt x="22382" y="11112"/>
                  <a:pt x="22391" y="11063"/>
                  <a:pt x="22399" y="11013"/>
                </a:cubicBezTo>
              </a:path>
              <a:path w="4317" h="1241">
                <a:moveTo>
                  <a:pt x="22275" y="10740"/>
                </a:moveTo>
                <a:cubicBezTo>
                  <a:pt x="22297" y="10884"/>
                  <a:pt x="22289" y="11075"/>
                  <a:pt x="22399" y="11162"/>
                </a:cubicBezTo>
                <a:cubicBezTo>
                  <a:pt x="22408" y="11090"/>
                  <a:pt x="22391" y="10852"/>
                  <a:pt x="22473" y="10815"/>
                </a:cubicBezTo>
                <a:cubicBezTo>
                  <a:pt x="22636" y="10742"/>
                  <a:pt x="22831" y="11013"/>
                  <a:pt x="22696" y="11137"/>
                </a:cubicBezTo>
                <a:cubicBezTo>
                  <a:pt x="22587" y="11165"/>
                  <a:pt x="22544" y="11169"/>
                  <a:pt x="22473" y="11112"/>
                </a:cubicBezTo>
              </a:path>
              <a:path w="4317" h="1241">
                <a:moveTo>
                  <a:pt x="22820" y="10641"/>
                </a:moveTo>
                <a:cubicBezTo>
                  <a:pt x="22866" y="10788"/>
                  <a:pt x="22876" y="11112"/>
                  <a:pt x="22994" y="11063"/>
                </a:cubicBezTo>
              </a:path>
              <a:path w="4317" h="1241">
                <a:moveTo>
                  <a:pt x="23143" y="10840"/>
                </a:moveTo>
                <a:cubicBezTo>
                  <a:pt x="23258" y="10782"/>
                  <a:pt x="23449" y="10767"/>
                  <a:pt x="23341" y="10641"/>
                </a:cubicBezTo>
                <a:cubicBezTo>
                  <a:pt x="23185" y="10719"/>
                  <a:pt x="23177" y="10747"/>
                  <a:pt x="23118" y="10914"/>
                </a:cubicBezTo>
                <a:cubicBezTo>
                  <a:pt x="23330" y="11010"/>
                  <a:pt x="23395" y="11001"/>
                  <a:pt x="23614" y="10939"/>
                </a:cubicBezTo>
              </a:path>
            </a:pathLst>
          </a:custGeom>
          <a:noFill/>
          <a:ln cap="rnd"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Extensions: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1"/>
              </a:rPr>
              <a:t>Animated Math @ </a:t>
            </a: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2"/>
              </a:rPr>
              <a:t>Classzone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(</a:t>
            </a: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Chapter 4: Decimal Product/Quotient Estimation)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3"/>
              </a:rPr>
              <a:t>Whole Number Estimation Practic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4"/>
              </a:rPr>
              <a:t>Brainpop</a:t>
            </a: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5"/>
              </a:rPr>
              <a:t> on Estimating (Concept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Homework: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Estimating Products &amp; Quotients Workshee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10T18:26:16Z</dcterms:modified>
  <cp:revision>22</cp:revision>
  <dc:subject/>
  <dc:title>Unit 1 – Variables and Equations </dc:title>
</cp:coreProperties>
</file>